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BE5-2957-462E-9C70-4780C402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98B-F30A-481C-AD31-334548CE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CDD-1F01-4660-8A56-1A23FEE2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900-6517-4BCA-97CA-49641982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6AEA-C49E-4C09-9722-F629B4DB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6A85-B7BD-460D-A31A-E4255D46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4FBC-C77E-4692-9317-E530F11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D8B-7950-49A9-B2A7-B52E1FCC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7C89-943D-4D3D-A0D6-408553E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FEEF-BF14-4ACF-955D-728D5AA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A7D-CD93-4DF5-B5CF-B120035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94F-73C6-4BF0-AE57-C454952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4D4-9F0B-4907-8988-B3CE743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A078-A422-4897-A6FE-816B6FF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237-73AF-442B-A632-E1702C6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7137-7902-4085-BBB6-3CC0DC9A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E278-DD11-421C-AAE0-1084F4AE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1AF7-ACAD-4723-9AC3-27F34927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B8EA-7D9B-4667-8583-BEA4CF3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E9B1-E6AA-4F4B-991F-8C81A384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E57A-6124-421D-B619-D5E4ACA0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2597-08FB-489F-BBBA-BD66C0A4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E71-4117-4546-9CA0-63D01CF2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F73F-3FBC-4932-BA04-D53BF618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40FA-E7F8-460F-844F-2626CCB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AD89-F19A-489C-AF10-97661A45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3BA8-BE74-4B73-9C4D-8DC3F82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7385-99BF-4C1F-939F-401E338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1197-3FB4-4D3C-BC89-1B6AD46F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6781-B2A8-4E94-89DC-399F0CE0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71F-F8C5-49FA-A8A9-DA4F269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4F8-9000-4451-8D21-4366557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887-418C-4C9D-83E7-3D871CFC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901-124F-4B78-A32A-63A2E32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185-E30B-4529-B5B8-A6AC6358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BA0-93CB-41C1-A567-2B686C9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6CF-81A0-4771-81D4-D85B5A19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09E0-4A9D-4C00-834D-F07214407AFF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8E6E-A04E-46B2-ADB4-E9F28E2178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644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61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Summary - Sampling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25080" y="33336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ltag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76360" y="119700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oltage change represented by change of o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00000" y="400428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olution =        Max 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457992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levels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1080" y="457992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7840" y="2778120"/>
            <a:ext cx="88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mallest change in voltage that can be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668720" y="333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42160" y="5016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0000" y="11268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lutio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93880" y="1062000"/>
            <a:ext cx="7639920" cy="3881160"/>
            <a:chOff x="893880" y="1062000"/>
            <a:chExt cx="7639920" cy="3881160"/>
          </a:xfrm>
        </p:grpSpPr>
        <p:sp>
          <p:nvSpPr>
            <p:cNvPr id="486" name=""/>
            <p:cNvSpPr/>
            <p:nvPr/>
          </p:nvSpPr>
          <p:spPr>
            <a:xfrm>
              <a:off x="895320" y="1419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93880" y="1903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93880" y="23875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93880" y="2871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3880" y="33573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93880" y="38415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3880" y="43257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155080" y="4422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53640" y="3911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55080" y="3436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55080" y="2977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153640" y="2503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53640" y="2101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53640" y="1569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53640" y="1062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11120" y="1496520"/>
            <a:ext cx="6100920" cy="3302280"/>
            <a:chOff x="1311120" y="1496520"/>
            <a:chExt cx="6100920" cy="3302280"/>
          </a:xfrm>
        </p:grpSpPr>
        <p:sp>
          <p:nvSpPr>
            <p:cNvPr id="502" name=""/>
            <p:cNvSpPr/>
            <p:nvPr/>
          </p:nvSpPr>
          <p:spPr>
            <a:xfrm flipV="1">
              <a:off x="1311120" y="302040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819080" y="1769760"/>
              <a:ext cx="0" cy="3029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328840" y="2004480"/>
              <a:ext cx="0" cy="27943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36800" y="3910320"/>
              <a:ext cx="0" cy="888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44760" y="1496520"/>
              <a:ext cx="0" cy="33022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853440" y="1623600"/>
              <a:ext cx="0" cy="3174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361400" y="238536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869360" y="429120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377680" y="404352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886000" y="302040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395400" y="1623600"/>
              <a:ext cx="0" cy="3174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6903720" y="213192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12040" y="417744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922320" y="739800"/>
            <a:ext cx="0" cy="405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22320" y="479592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-308160" y="2240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2960" y="1152360"/>
            <a:ext cx="7779600" cy="3689280"/>
            <a:chOff x="912960" y="1152360"/>
            <a:chExt cx="7779600" cy="3689280"/>
          </a:xfrm>
        </p:grpSpPr>
        <p:sp>
          <p:nvSpPr>
            <p:cNvPr id="519" name=""/>
            <p:cNvSpPr/>
            <p:nvPr/>
          </p:nvSpPr>
          <p:spPr>
            <a:xfrm>
              <a:off x="912960" y="20714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2960" y="25254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2960" y="2979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2960" y="3435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38890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2960" y="43434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2960" y="18446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12960" y="22986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2960" y="27525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12960" y="3208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2960" y="36622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12960" y="41162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2960" y="45702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2960" y="16174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12960" y="13906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228160" y="4321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228160" y="3816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28160" y="3384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15480" y="16272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15480" y="11523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8160" y="295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28160" y="2520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15480" y="2100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52720" y="11034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620360" y="5013360"/>
            <a:ext cx="5417280" cy="1084320"/>
            <a:chOff x="1620360" y="5013360"/>
            <a:chExt cx="5417280" cy="1084320"/>
          </a:xfrm>
        </p:grpSpPr>
        <p:sp>
          <p:nvSpPr>
            <p:cNvPr id="544" name=""/>
            <p:cNvSpPr/>
            <p:nvPr/>
          </p:nvSpPr>
          <p:spPr>
            <a:xfrm>
              <a:off x="1620360" y="5013360"/>
              <a:ext cx="541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3 bit resolution =   7V    =  1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20160" y="5516280"/>
              <a:ext cx="135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(8 –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35440" y="5516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404360" y="5084640"/>
            <a:ext cx="5981040" cy="1032120"/>
            <a:chOff x="1404360" y="5084640"/>
            <a:chExt cx="5981040" cy="1032120"/>
          </a:xfrm>
        </p:grpSpPr>
        <p:sp>
          <p:nvSpPr>
            <p:cNvPr id="548" name=""/>
            <p:cNvSpPr/>
            <p:nvPr/>
          </p:nvSpPr>
          <p:spPr>
            <a:xfrm>
              <a:off x="1404360" y="5084640"/>
              <a:ext cx="59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4 bit resolution =   7V    =  0.47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12360" y="553536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(16 –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00360" y="5565600"/>
              <a:ext cx="10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896920" y="38088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523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ccurate representation of original signal sample at Nyquist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5880" y="3505320"/>
            <a:ext cx="77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yquist frequency &gt; 2 x highest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557080" y="33336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pl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9120" y="126828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frequency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6960" y="2340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consecutive sam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88280" y="21193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4600" y="26956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80360" y="2781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06728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ing to match sampling frequency with signal leads to ali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3280" y="5516640"/>
            <a:ext cx="46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tru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4284720" y="5157360"/>
            <a:ext cx="21600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020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5684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Transfer rates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123000" y="304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7320" y="1235160"/>
            <a:ext cx="495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frequency = 1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7680" y="205272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between sampl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241960" y="1960560"/>
            <a:ext cx="2882880" cy="1469520"/>
            <a:chOff x="5241960" y="1960560"/>
            <a:chExt cx="2882880" cy="1469520"/>
          </a:xfrm>
        </p:grpSpPr>
        <p:sp>
          <p:nvSpPr>
            <p:cNvPr id="569" name=""/>
            <p:cNvSpPr/>
            <p:nvPr/>
          </p:nvSpPr>
          <p:spPr>
            <a:xfrm>
              <a:off x="5241960" y="2482920"/>
              <a:ext cx="192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mpling frequen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68720" y="1960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57800" y="24940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64000" y="203688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= 1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53720" y="4572000"/>
            <a:ext cx="8562240" cy="1648080"/>
            <a:chOff x="153720" y="4572000"/>
            <a:chExt cx="8562240" cy="1648080"/>
          </a:xfrm>
        </p:grpSpPr>
        <p:sp>
          <p:nvSpPr>
            <p:cNvPr id="574" name=""/>
            <p:cNvSpPr/>
            <p:nvPr/>
          </p:nvSpPr>
          <p:spPr>
            <a:xfrm>
              <a:off x="380880" y="480060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372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4312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3216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560" y="5105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380880" y="4572000"/>
              <a:ext cx="7467840" cy="533520"/>
              <a:chOff x="380880" y="4572000"/>
              <a:chExt cx="7467840" cy="533520"/>
            </a:xfrm>
          </p:grpSpPr>
          <p:sp>
            <p:nvSpPr>
              <p:cNvPr id="580" name=""/>
              <p:cNvSpPr/>
              <p:nvPr/>
            </p:nvSpPr>
            <p:spPr>
              <a:xfrm flipV="1">
                <a:off x="38088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87028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535932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848720" y="457200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7315920" y="56386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31480" y="4114800"/>
            <a:ext cx="8833320" cy="534960"/>
            <a:chOff x="231480" y="4114800"/>
            <a:chExt cx="8833320" cy="534960"/>
          </a:xfrm>
        </p:grpSpPr>
        <p:sp>
          <p:nvSpPr>
            <p:cNvPr id="586" name=""/>
            <p:cNvSpPr/>
            <p:nvPr/>
          </p:nvSpPr>
          <p:spPr>
            <a:xfrm>
              <a:off x="23148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69760" y="41292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8436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78440" y="4114800"/>
              <a:ext cx="13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153720" y="3124080"/>
            <a:ext cx="8562240" cy="1648080"/>
            <a:chOff x="153720" y="3124080"/>
            <a:chExt cx="8562240" cy="1648080"/>
          </a:xfrm>
        </p:grpSpPr>
        <p:sp>
          <p:nvSpPr>
            <p:cNvPr id="591" name=""/>
            <p:cNvSpPr/>
            <p:nvPr/>
          </p:nvSpPr>
          <p:spPr>
            <a:xfrm>
              <a:off x="380880" y="335268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37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431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321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5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80880" y="3124080"/>
              <a:ext cx="7467840" cy="533520"/>
              <a:chOff x="380880" y="3124080"/>
              <a:chExt cx="7467840" cy="53352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3808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702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3593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78487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7315920" y="4190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27160" y="38088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ample is 3 bits long (000, 010, 110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7520" y="121932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ransmit sample within 1s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30040" y="2502000"/>
            <a:ext cx="2059200" cy="594000"/>
            <a:chOff x="230040" y="2502000"/>
            <a:chExt cx="2059200" cy="594000"/>
          </a:xfrm>
        </p:grpSpPr>
        <p:sp>
          <p:nvSpPr>
            <p:cNvPr id="605" name=""/>
            <p:cNvSpPr/>
            <p:nvPr/>
          </p:nvSpPr>
          <p:spPr>
            <a:xfrm>
              <a:off x="23004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5552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8280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709720" y="2502000"/>
            <a:ext cx="2059200" cy="594000"/>
            <a:chOff x="2709720" y="2502000"/>
            <a:chExt cx="2059200" cy="594000"/>
          </a:xfrm>
        </p:grpSpPr>
        <p:sp>
          <p:nvSpPr>
            <p:cNvPr id="609" name=""/>
            <p:cNvSpPr/>
            <p:nvPr/>
          </p:nvSpPr>
          <p:spPr>
            <a:xfrm>
              <a:off x="270972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35200" y="2502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248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89400" y="2500200"/>
            <a:ext cx="2058840" cy="595800"/>
            <a:chOff x="5189400" y="2500200"/>
            <a:chExt cx="2058840" cy="595800"/>
          </a:xfrm>
        </p:grpSpPr>
        <p:sp>
          <p:nvSpPr>
            <p:cNvPr id="613" name=""/>
            <p:cNvSpPr/>
            <p:nvPr/>
          </p:nvSpPr>
          <p:spPr>
            <a:xfrm>
              <a:off x="5189400" y="2508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4880" y="2500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1800" y="2514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7669080" y="251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00760" y="4869000"/>
            <a:ext cx="60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rate = 3 bit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28600" y="1782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2960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bits p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12942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f sample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15000" y="18280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21320" y="17517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82920" y="2636640"/>
            <a:ext cx="5283000" cy="1661040"/>
            <a:chOff x="682920" y="2636640"/>
            <a:chExt cx="5283000" cy="1661040"/>
          </a:xfrm>
        </p:grpSpPr>
        <p:sp>
          <p:nvSpPr>
            <p:cNvPr id="624" name=""/>
            <p:cNvSpPr/>
            <p:nvPr/>
          </p:nvSpPr>
          <p:spPr>
            <a:xfrm>
              <a:off x="682920" y="3716280"/>
              <a:ext cx="528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asured in bits per seco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1619280" y="2636640"/>
              <a:ext cx="288720" cy="11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0120" y="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Playbill"/>
              </a:rPr>
              <a:t>Fa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4978440" y="260280"/>
            <a:ext cx="4165560" cy="251460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0920" y="1268280"/>
            <a:ext cx="47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page into a grid     of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1640" y="24922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ixel is 1 b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560" y="4505400"/>
            <a:ext cx="66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transfer information -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50920" y="5300640"/>
            <a:ext cx="8569080" cy="1148040"/>
            <a:chOff x="250920" y="5300640"/>
            <a:chExt cx="8569080" cy="1148040"/>
          </a:xfrm>
        </p:grpSpPr>
        <p:sp>
          <p:nvSpPr>
            <p:cNvPr id="632" name=""/>
            <p:cNvSpPr/>
            <p:nvPr/>
          </p:nvSpPr>
          <p:spPr>
            <a:xfrm>
              <a:off x="250920" y="5300640"/>
              <a:ext cx="85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ime = Total number of bits to be transferr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14040" y="5867280"/>
              <a:ext cx="250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ransfer r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90560" y="587700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50920" y="320364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page is encoded – so includes unnecess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5840" y="-46080"/>
            <a:ext cx="25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Playbill"/>
              </a:rPr>
              <a:t>Emai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838600" cy="30099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76200" y="1258920"/>
            <a:ext cx="549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SCII code – each character associated with a binar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75120" y="2924280"/>
            <a:ext cx="65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aracter is an 8 bi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76200" y="4292640"/>
            <a:ext cx="84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transfer information – small (as fewer bits compared to the same message if fax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2240" y="3635280"/>
            <a:ext cx="83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haracters are encoded – very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59640" y="18900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w to digitise an analogu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64120" y="5985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73160" y="2991960"/>
            <a:ext cx="5175360" cy="2802240"/>
            <a:chOff x="1973160" y="2991960"/>
            <a:chExt cx="5175360" cy="2802240"/>
          </a:xfrm>
        </p:grpSpPr>
        <p:sp>
          <p:nvSpPr>
            <p:cNvPr id="129" name=""/>
            <p:cNvSpPr/>
            <p:nvPr/>
          </p:nvSpPr>
          <p:spPr>
            <a:xfrm flipV="1">
              <a:off x="1973160" y="4284720"/>
              <a:ext cx="0" cy="15087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04080" y="3223440"/>
              <a:ext cx="0" cy="2570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36440" y="3422880"/>
              <a:ext cx="0" cy="2370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67360" y="5040360"/>
              <a:ext cx="0" cy="7538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698280" y="2991960"/>
              <a:ext cx="0" cy="2801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29560" y="3099600"/>
              <a:ext cx="0" cy="2693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560840" y="3745800"/>
              <a:ext cx="0" cy="204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991760" y="5363280"/>
              <a:ext cx="0" cy="4305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422680" y="5153040"/>
              <a:ext cx="11520" cy="640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53960" y="4284720"/>
              <a:ext cx="0" cy="15087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85960" y="3099600"/>
              <a:ext cx="0" cy="26938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717240" y="3530880"/>
              <a:ext cx="0" cy="2262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148520" y="5266080"/>
              <a:ext cx="0" cy="5274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758960" y="2584440"/>
            <a:ext cx="5711760" cy="3000240"/>
          </a:xfrm>
          <a:custGeom>
            <a:avLst/>
            <a:gdLst/>
            <a:ahLst/>
            <a:rect l="l" t="t" r="r" b="b"/>
            <a:pathLst>
              <a:path w="2544" h="1336">
                <a:moveTo>
                  <a:pt x="0" y="712"/>
                </a:moveTo>
                <a:cubicBezTo>
                  <a:pt x="16" y="784"/>
                  <a:pt x="32" y="856"/>
                  <a:pt x="96" y="760"/>
                </a:cubicBezTo>
                <a:cubicBezTo>
                  <a:pt x="160" y="664"/>
                  <a:pt x="304" y="136"/>
                  <a:pt x="384" y="136"/>
                </a:cubicBezTo>
                <a:cubicBezTo>
                  <a:pt x="464" y="136"/>
                  <a:pt x="520" y="600"/>
                  <a:pt x="576" y="760"/>
                </a:cubicBezTo>
                <a:cubicBezTo>
                  <a:pt x="632" y="920"/>
                  <a:pt x="672" y="1200"/>
                  <a:pt x="720" y="1096"/>
                </a:cubicBezTo>
                <a:cubicBezTo>
                  <a:pt x="768" y="992"/>
                  <a:pt x="824" y="224"/>
                  <a:pt x="864" y="136"/>
                </a:cubicBezTo>
                <a:cubicBezTo>
                  <a:pt x="904" y="48"/>
                  <a:pt x="928" y="560"/>
                  <a:pt x="960" y="568"/>
                </a:cubicBezTo>
                <a:cubicBezTo>
                  <a:pt x="992" y="576"/>
                  <a:pt x="1024" y="120"/>
                  <a:pt x="1056" y="184"/>
                </a:cubicBezTo>
                <a:cubicBezTo>
                  <a:pt x="1088" y="248"/>
                  <a:pt x="1112" y="920"/>
                  <a:pt x="1152" y="952"/>
                </a:cubicBezTo>
                <a:cubicBezTo>
                  <a:pt x="1192" y="984"/>
                  <a:pt x="1248" y="328"/>
                  <a:pt x="1296" y="376"/>
                </a:cubicBezTo>
                <a:cubicBezTo>
                  <a:pt x="1344" y="424"/>
                  <a:pt x="1360" y="1144"/>
                  <a:pt x="1440" y="1240"/>
                </a:cubicBezTo>
                <a:cubicBezTo>
                  <a:pt x="1520" y="1336"/>
                  <a:pt x="1704" y="1104"/>
                  <a:pt x="1776" y="952"/>
                </a:cubicBezTo>
                <a:cubicBezTo>
                  <a:pt x="1848" y="800"/>
                  <a:pt x="1840" y="480"/>
                  <a:pt x="1872" y="328"/>
                </a:cubicBezTo>
                <a:cubicBezTo>
                  <a:pt x="1904" y="176"/>
                  <a:pt x="1928" y="0"/>
                  <a:pt x="1968" y="40"/>
                </a:cubicBezTo>
                <a:cubicBezTo>
                  <a:pt x="2008" y="80"/>
                  <a:pt x="2064" y="512"/>
                  <a:pt x="2112" y="568"/>
                </a:cubicBezTo>
                <a:cubicBezTo>
                  <a:pt x="2160" y="624"/>
                  <a:pt x="2208" y="272"/>
                  <a:pt x="2256" y="376"/>
                </a:cubicBezTo>
                <a:cubicBezTo>
                  <a:pt x="2304" y="480"/>
                  <a:pt x="2352" y="1160"/>
                  <a:pt x="2400" y="1192"/>
                </a:cubicBezTo>
                <a:cubicBezTo>
                  <a:pt x="2448" y="1224"/>
                  <a:pt x="2528" y="696"/>
                  <a:pt x="2544" y="56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43040" y="2349360"/>
            <a:ext cx="0" cy="344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43040" y="5791320"/>
            <a:ext cx="606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339120" y="28767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981000"/>
            <a:ext cx="86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nalogue signal and at regular intervals record 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11280" y="5950080"/>
            <a:ext cx="2160720" cy="911160"/>
            <a:chOff x="2411280" y="5950080"/>
            <a:chExt cx="2160720" cy="911160"/>
          </a:xfrm>
        </p:grpSpPr>
        <p:sp>
          <p:nvSpPr>
            <p:cNvPr id="148" name=""/>
            <p:cNvSpPr/>
            <p:nvPr/>
          </p:nvSpPr>
          <p:spPr>
            <a:xfrm>
              <a:off x="2411280" y="60357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ime between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6720" y="5950080"/>
              <a:ext cx="43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020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pter 3. Signalling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5684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69696"/>
                </a:solidFill>
                <a:latin typeface="Arial"/>
              </a:rPr>
              <a:t>Bandwidth</a:t>
            </a:r>
            <a:endParaRPr b="0" i="1" lang="en-US" sz="4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5092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rols the transfer rate of the digital sign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4200" y="90792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rrier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03480" y="5659560"/>
            <a:ext cx="6645960" cy="793440"/>
            <a:chOff x="1203480" y="5659560"/>
            <a:chExt cx="6645960" cy="793440"/>
          </a:xfrm>
        </p:grpSpPr>
        <p:grpSp>
          <p:nvGrpSpPr>
            <p:cNvPr id="647" name=""/>
            <p:cNvGrpSpPr/>
            <p:nvPr/>
          </p:nvGrpSpPr>
          <p:grpSpPr>
            <a:xfrm>
              <a:off x="2530440" y="5659560"/>
              <a:ext cx="662400" cy="793440"/>
              <a:chOff x="2530440" y="5659560"/>
              <a:chExt cx="662400" cy="793440"/>
            </a:xfrm>
          </p:grpSpPr>
          <p:sp>
            <p:nvSpPr>
              <p:cNvPr id="648" name=""/>
              <p:cNvSpPr/>
              <p:nvPr/>
            </p:nvSpPr>
            <p:spPr>
              <a:xfrm>
                <a:off x="253044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86164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203480" y="5659560"/>
              <a:ext cx="661680" cy="793440"/>
              <a:chOff x="1203480" y="5659560"/>
              <a:chExt cx="661680" cy="793440"/>
            </a:xfrm>
          </p:grpSpPr>
          <p:sp>
            <p:nvSpPr>
              <p:cNvPr id="651" name=""/>
              <p:cNvSpPr/>
              <p:nvPr/>
            </p:nvSpPr>
            <p:spPr>
              <a:xfrm>
                <a:off x="1203480" y="565956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534320" y="605628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865160" y="5659560"/>
              <a:ext cx="662400" cy="793440"/>
              <a:chOff x="1865160" y="5659560"/>
              <a:chExt cx="662400" cy="793440"/>
            </a:xfrm>
          </p:grpSpPr>
          <p:sp>
            <p:nvSpPr>
              <p:cNvPr id="654" name=""/>
              <p:cNvSpPr/>
              <p:nvPr/>
            </p:nvSpPr>
            <p:spPr>
              <a:xfrm>
                <a:off x="186516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219636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195720" y="5659560"/>
              <a:ext cx="662400" cy="793440"/>
              <a:chOff x="3195720" y="5659560"/>
              <a:chExt cx="662400" cy="793440"/>
            </a:xfrm>
          </p:grpSpPr>
          <p:sp>
            <p:nvSpPr>
              <p:cNvPr id="657" name=""/>
              <p:cNvSpPr/>
              <p:nvPr/>
            </p:nvSpPr>
            <p:spPr>
              <a:xfrm>
                <a:off x="319572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52692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861000" y="5659560"/>
              <a:ext cx="662400" cy="793440"/>
              <a:chOff x="3861000" y="5659560"/>
              <a:chExt cx="662400" cy="793440"/>
            </a:xfrm>
          </p:grpSpPr>
          <p:sp>
            <p:nvSpPr>
              <p:cNvPr id="660" name=""/>
              <p:cNvSpPr/>
              <p:nvPr/>
            </p:nvSpPr>
            <p:spPr>
              <a:xfrm>
                <a:off x="386100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19220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526280" y="5659560"/>
              <a:ext cx="662400" cy="793440"/>
              <a:chOff x="4526280" y="5659560"/>
              <a:chExt cx="662400" cy="793440"/>
            </a:xfrm>
          </p:grpSpPr>
          <p:sp>
            <p:nvSpPr>
              <p:cNvPr id="663" name=""/>
              <p:cNvSpPr/>
              <p:nvPr/>
            </p:nvSpPr>
            <p:spPr>
              <a:xfrm>
                <a:off x="452628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485748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521760" y="5659560"/>
              <a:ext cx="662400" cy="793440"/>
              <a:chOff x="6521760" y="5659560"/>
              <a:chExt cx="662400" cy="793440"/>
            </a:xfrm>
          </p:grpSpPr>
          <p:sp>
            <p:nvSpPr>
              <p:cNvPr id="666" name=""/>
              <p:cNvSpPr/>
              <p:nvPr/>
            </p:nvSpPr>
            <p:spPr>
              <a:xfrm>
                <a:off x="652176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85296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194800" y="5659560"/>
              <a:ext cx="661680" cy="793440"/>
              <a:chOff x="5194800" y="5659560"/>
              <a:chExt cx="661680" cy="793440"/>
            </a:xfrm>
          </p:grpSpPr>
          <p:sp>
            <p:nvSpPr>
              <p:cNvPr id="669" name=""/>
              <p:cNvSpPr/>
              <p:nvPr/>
            </p:nvSpPr>
            <p:spPr>
              <a:xfrm>
                <a:off x="5194800" y="565956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525640" y="6056280"/>
                <a:ext cx="33084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5856480" y="5659560"/>
              <a:ext cx="662400" cy="793440"/>
              <a:chOff x="5856480" y="5659560"/>
              <a:chExt cx="662400" cy="793440"/>
            </a:xfrm>
          </p:grpSpPr>
          <p:sp>
            <p:nvSpPr>
              <p:cNvPr id="672" name=""/>
              <p:cNvSpPr/>
              <p:nvPr/>
            </p:nvSpPr>
            <p:spPr>
              <a:xfrm>
                <a:off x="585648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18768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87040" y="5659560"/>
              <a:ext cx="662400" cy="793440"/>
              <a:chOff x="7187040" y="5659560"/>
              <a:chExt cx="662400" cy="793440"/>
            </a:xfrm>
          </p:grpSpPr>
          <p:sp>
            <p:nvSpPr>
              <p:cNvPr id="675" name=""/>
              <p:cNvSpPr/>
              <p:nvPr/>
            </p:nvSpPr>
            <p:spPr>
              <a:xfrm>
                <a:off x="7187040" y="565956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518240" y="6056280"/>
                <a:ext cx="331200" cy="39672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"/>
          <p:cNvGrpSpPr/>
          <p:nvPr/>
        </p:nvGrpSpPr>
        <p:grpSpPr>
          <a:xfrm>
            <a:off x="1204920" y="4587840"/>
            <a:ext cx="6645240" cy="870840"/>
            <a:chOff x="1204920" y="4587840"/>
            <a:chExt cx="6645240" cy="870840"/>
          </a:xfrm>
        </p:grpSpPr>
        <p:grpSp>
          <p:nvGrpSpPr>
            <p:cNvPr id="678" name=""/>
            <p:cNvGrpSpPr/>
            <p:nvPr/>
          </p:nvGrpSpPr>
          <p:grpSpPr>
            <a:xfrm>
              <a:off x="1204920" y="4587840"/>
              <a:ext cx="3318480" cy="870840"/>
              <a:chOff x="1204920" y="4587840"/>
              <a:chExt cx="3318480" cy="870840"/>
            </a:xfrm>
          </p:grpSpPr>
          <p:sp>
            <p:nvSpPr>
              <p:cNvPr id="679" name=""/>
              <p:cNvSpPr/>
              <p:nvPr/>
            </p:nvSpPr>
            <p:spPr>
              <a:xfrm>
                <a:off x="12049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867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3044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1975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606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531680" y="4587840"/>
              <a:ext cx="3318480" cy="870840"/>
              <a:chOff x="4531680" y="4587840"/>
              <a:chExt cx="3318480" cy="870840"/>
            </a:xfrm>
          </p:grpSpPr>
          <p:sp>
            <p:nvSpPr>
              <p:cNvPr id="685" name=""/>
              <p:cNvSpPr/>
              <p:nvPr/>
            </p:nvSpPr>
            <p:spPr>
              <a:xfrm>
                <a:off x="4531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44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5720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242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8740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57200" y="2133720"/>
            <a:ext cx="8372520" cy="871560"/>
          </a:xfrm>
          <a:custGeom>
            <a:avLst/>
            <a:gdLst/>
            <a:ahLst/>
            <a:rect l="l" t="t" r="r" b="b"/>
            <a:pathLst>
              <a:path w="2858" h="499">
                <a:moveTo>
                  <a:pt x="0" y="499"/>
                </a:moveTo>
                <a:lnTo>
                  <a:pt x="273" y="499"/>
                </a:lnTo>
                <a:lnTo>
                  <a:pt x="273" y="0"/>
                </a:lnTo>
                <a:lnTo>
                  <a:pt x="726" y="0"/>
                </a:lnTo>
                <a:lnTo>
                  <a:pt x="726" y="499"/>
                </a:lnTo>
                <a:lnTo>
                  <a:pt x="1180" y="499"/>
                </a:lnTo>
                <a:lnTo>
                  <a:pt x="1180" y="0"/>
                </a:lnTo>
                <a:lnTo>
                  <a:pt x="1633" y="0"/>
                </a:lnTo>
                <a:lnTo>
                  <a:pt x="1633" y="499"/>
                </a:lnTo>
                <a:lnTo>
                  <a:pt x="2042" y="499"/>
                </a:lnTo>
                <a:lnTo>
                  <a:pt x="2042" y="0"/>
                </a:lnTo>
                <a:lnTo>
                  <a:pt x="2495" y="0"/>
                </a:lnTo>
                <a:lnTo>
                  <a:pt x="2495" y="499"/>
                </a:lnTo>
                <a:lnTo>
                  <a:pt x="2858" y="4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204920" y="4587840"/>
            <a:ext cx="6645240" cy="870840"/>
            <a:chOff x="1204920" y="4587840"/>
            <a:chExt cx="6645240" cy="870840"/>
          </a:xfrm>
        </p:grpSpPr>
        <p:grpSp>
          <p:nvGrpSpPr>
            <p:cNvPr id="692" name=""/>
            <p:cNvGrpSpPr/>
            <p:nvPr/>
          </p:nvGrpSpPr>
          <p:grpSpPr>
            <a:xfrm>
              <a:off x="1204920" y="4587840"/>
              <a:ext cx="3318480" cy="870840"/>
              <a:chOff x="1204920" y="4587840"/>
              <a:chExt cx="3318480" cy="870840"/>
            </a:xfrm>
          </p:grpSpPr>
          <p:sp>
            <p:nvSpPr>
              <p:cNvPr id="693" name=""/>
              <p:cNvSpPr/>
              <p:nvPr/>
            </p:nvSpPr>
            <p:spPr>
              <a:xfrm>
                <a:off x="12049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867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3044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9752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606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31680" y="4587840"/>
              <a:ext cx="3318480" cy="870840"/>
              <a:chOff x="4531680" y="4587840"/>
              <a:chExt cx="3318480" cy="870840"/>
            </a:xfrm>
          </p:grpSpPr>
          <p:sp>
            <p:nvSpPr>
              <p:cNvPr id="699" name=""/>
              <p:cNvSpPr/>
              <p:nvPr/>
            </p:nvSpPr>
            <p:spPr>
              <a:xfrm>
                <a:off x="45316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9444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57200" y="4587840"/>
                <a:ext cx="66348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2428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187400" y="4587840"/>
                <a:ext cx="662760" cy="870840"/>
              </a:xfrm>
              <a:custGeom>
                <a:avLst/>
                <a:gdLst/>
                <a:ahLst/>
                <a:rect l="l" t="t" r="r" b="b"/>
                <a:pathLst>
                  <a:path w="181" h="499">
                    <a:moveTo>
                      <a:pt x="0" y="499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0" y="499"/>
                    </a:lnTo>
                    <a:lnTo>
                      <a:pt x="181" y="499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247680" y="1474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3933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-1346040" y="3068640"/>
            <a:ext cx="10742400" cy="1081080"/>
            <a:chOff x="-1346040" y="3068640"/>
            <a:chExt cx="10742400" cy="1081080"/>
          </a:xfrm>
        </p:grpSpPr>
        <p:sp>
          <p:nvSpPr>
            <p:cNvPr id="707" name=""/>
            <p:cNvSpPr/>
            <p:nvPr/>
          </p:nvSpPr>
          <p:spPr>
            <a:xfrm>
              <a:off x="1246320" y="3133800"/>
              <a:ext cx="133956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2584440" y="352908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24360" y="314172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5262480" y="353700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88000" y="314316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926480" y="3538440"/>
              <a:ext cx="1339920" cy="395280"/>
            </a:xfrm>
            <a:custGeom>
              <a:avLst/>
              <a:gdLst/>
              <a:ahLst/>
              <a:rect l="l" t="t" r="r" b="b"/>
              <a:pathLst>
                <a:path w="2268" h="1134">
                  <a:moveTo>
                    <a:pt x="0" y="1134"/>
                  </a:moveTo>
                  <a:cubicBezTo>
                    <a:pt x="378" y="567"/>
                    <a:pt x="756" y="0"/>
                    <a:pt x="1134" y="0"/>
                  </a:cubicBezTo>
                  <a:cubicBezTo>
                    <a:pt x="1512" y="0"/>
                    <a:pt x="1890" y="567"/>
                    <a:pt x="2268" y="113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32720" y="3284640"/>
              <a:ext cx="8636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-1346040" y="3068640"/>
              <a:ext cx="2678040" cy="790560"/>
              <a:chOff x="-1346040" y="3068640"/>
              <a:chExt cx="2678040" cy="79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-1346040" y="3068640"/>
                <a:ext cx="1339560" cy="39528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-7560" y="3463920"/>
                <a:ext cx="1339920" cy="395280"/>
              </a:xfrm>
              <a:custGeom>
                <a:avLst/>
                <a:gdLst/>
                <a:ahLst/>
                <a:rect l="l" t="t" r="r" b="b"/>
                <a:pathLst>
                  <a:path w="2268" h="1134">
                    <a:moveTo>
                      <a:pt x="0" y="1134"/>
                    </a:moveTo>
                    <a:cubicBezTo>
                      <a:pt x="378" y="567"/>
                      <a:pt x="756" y="0"/>
                      <a:pt x="1134" y="0"/>
                    </a:cubicBezTo>
                    <a:cubicBezTo>
                      <a:pt x="1512" y="0"/>
                      <a:pt x="1890" y="567"/>
                      <a:pt x="2268" y="113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-828720" y="3357720"/>
              <a:ext cx="1513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57200" y="2133720"/>
            <a:ext cx="8372520" cy="871560"/>
          </a:xfrm>
          <a:custGeom>
            <a:avLst/>
            <a:gdLst/>
            <a:ahLst/>
            <a:rect l="l" t="t" r="r" b="b"/>
            <a:pathLst>
              <a:path w="2858" h="499">
                <a:moveTo>
                  <a:pt x="0" y="499"/>
                </a:moveTo>
                <a:lnTo>
                  <a:pt x="273" y="499"/>
                </a:lnTo>
                <a:lnTo>
                  <a:pt x="273" y="0"/>
                </a:lnTo>
                <a:lnTo>
                  <a:pt x="726" y="0"/>
                </a:lnTo>
                <a:lnTo>
                  <a:pt x="726" y="499"/>
                </a:lnTo>
                <a:lnTo>
                  <a:pt x="1180" y="499"/>
                </a:lnTo>
                <a:lnTo>
                  <a:pt x="1180" y="0"/>
                </a:lnTo>
                <a:lnTo>
                  <a:pt x="1633" y="0"/>
                </a:lnTo>
                <a:lnTo>
                  <a:pt x="1633" y="499"/>
                </a:lnTo>
                <a:lnTo>
                  <a:pt x="2042" y="499"/>
                </a:lnTo>
                <a:lnTo>
                  <a:pt x="2042" y="0"/>
                </a:lnTo>
                <a:lnTo>
                  <a:pt x="2495" y="0"/>
                </a:lnTo>
                <a:lnTo>
                  <a:pt x="2495" y="499"/>
                </a:lnTo>
                <a:lnTo>
                  <a:pt x="2858" y="499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-3.05556E-006 0.14167 E">
                                      <p:cBhvr>
                                        <p:cTn id="324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2.5E-006 0.15231 E">
                                      <p:cBhvr>
                                        <p:cTn id="340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24000" y="333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transfer rat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4000" y="1052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frequency is half of digital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3573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f carrier frequency is any less, some information will be missed -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0920" y="5013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carrier frequency can be anywhere in the EM spectrum – but must be at or above minimum for sig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11280" y="1699920"/>
            <a:ext cx="7991280" cy="1502640"/>
            <a:chOff x="611280" y="1699920"/>
            <a:chExt cx="7991280" cy="1502640"/>
          </a:xfrm>
        </p:grpSpPr>
        <p:sp>
          <p:nvSpPr>
            <p:cNvPr id="724" name=""/>
            <p:cNvSpPr/>
            <p:nvPr/>
          </p:nvSpPr>
          <p:spPr>
            <a:xfrm>
              <a:off x="611280" y="2133720"/>
              <a:ext cx="799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Uses peak = 1 and trough = 0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</a:t>
              </a: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two bits transmitted per wave oscill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356000" y="1699920"/>
              <a:ext cx="6048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l is well until the carrier frequency increases compared to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50920" y="14097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– may not fit an integer number of half wavelengths into digital “hi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5280" y="553068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make it end on zero by including higher carrie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050560" y="2778120"/>
            <a:ext cx="4682160" cy="1871640"/>
            <a:chOff x="2050560" y="2778120"/>
            <a:chExt cx="4682160" cy="1871640"/>
          </a:xfrm>
        </p:grpSpPr>
        <p:sp>
          <p:nvSpPr>
            <p:cNvPr id="730" name=""/>
            <p:cNvSpPr/>
            <p:nvPr/>
          </p:nvSpPr>
          <p:spPr>
            <a:xfrm flipH="1">
              <a:off x="2050560" y="4040280"/>
              <a:ext cx="57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627280" y="3713040"/>
              <a:ext cx="720360" cy="649440"/>
              <a:chOff x="2627280" y="3713040"/>
              <a:chExt cx="720360" cy="64944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2627280" y="3713040"/>
                <a:ext cx="240120" cy="649440"/>
                <a:chOff x="2627280" y="3713040"/>
                <a:chExt cx="240120" cy="6494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26272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27471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2867400" y="3713040"/>
                <a:ext cx="240120" cy="649440"/>
                <a:chOff x="2867400" y="3713040"/>
                <a:chExt cx="240120" cy="6494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286740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298728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107520" y="3713040"/>
                <a:ext cx="240120" cy="649440"/>
                <a:chOff x="3107520" y="3713040"/>
                <a:chExt cx="240120" cy="649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10752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322740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1" name=""/>
            <p:cNvSpPr/>
            <p:nvPr/>
          </p:nvSpPr>
          <p:spPr>
            <a:xfrm>
              <a:off x="3276720" y="3641760"/>
              <a:ext cx="2156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3348000" y="4040280"/>
              <a:ext cx="7192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4067280" y="3713040"/>
              <a:ext cx="720360" cy="649440"/>
              <a:chOff x="4067280" y="3713040"/>
              <a:chExt cx="720360" cy="64944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4067280" y="3713040"/>
                <a:ext cx="240120" cy="649440"/>
                <a:chOff x="4067280" y="3713040"/>
                <a:chExt cx="240120" cy="6494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0672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41871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307400" y="3713040"/>
                <a:ext cx="240120" cy="649440"/>
                <a:chOff x="4307400" y="3713040"/>
                <a:chExt cx="240120" cy="6494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30740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442728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4547520" y="3713040"/>
                <a:ext cx="240120" cy="649440"/>
                <a:chOff x="4547520" y="3713040"/>
                <a:chExt cx="240120" cy="649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454752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466740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"/>
            <p:cNvSpPr/>
            <p:nvPr/>
          </p:nvSpPr>
          <p:spPr>
            <a:xfrm>
              <a:off x="4716360" y="3641760"/>
              <a:ext cx="216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435640" y="3713040"/>
              <a:ext cx="720360" cy="649440"/>
              <a:chOff x="5435640" y="3713040"/>
              <a:chExt cx="720360" cy="6494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5435640" y="3713040"/>
                <a:ext cx="240120" cy="649440"/>
                <a:chOff x="5435640" y="3713040"/>
                <a:chExt cx="240120" cy="64944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543564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555552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675760" y="3713040"/>
                <a:ext cx="240120" cy="649440"/>
                <a:chOff x="5675760" y="3713040"/>
                <a:chExt cx="240120" cy="64944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567576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579564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5915880" y="3713040"/>
                <a:ext cx="240120" cy="649440"/>
                <a:chOff x="5915880" y="3713040"/>
                <a:chExt cx="240120" cy="6494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915880" y="371304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6035760" y="4037760"/>
                  <a:ext cx="120240" cy="324720"/>
                </a:xfrm>
                <a:custGeom>
                  <a:avLst/>
                  <a:gdLst/>
                  <a:ahLst/>
                  <a:rect l="l" t="t" r="r" b="b"/>
                  <a:pathLst>
                    <a:path w="2268" h="1134">
                      <a:moveTo>
                        <a:pt x="0" y="1134"/>
                      </a:moveTo>
                      <a:cubicBezTo>
                        <a:pt x="378" y="567"/>
                        <a:pt x="756" y="0"/>
                        <a:pt x="1134" y="0"/>
                      </a:cubicBezTo>
                      <a:cubicBezTo>
                        <a:pt x="1512" y="0"/>
                        <a:pt x="1890" y="567"/>
                        <a:pt x="2268" y="1134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4" name=""/>
            <p:cNvSpPr/>
            <p:nvPr/>
          </p:nvSpPr>
          <p:spPr>
            <a:xfrm>
              <a:off x="6084720" y="3641760"/>
              <a:ext cx="21600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87640" y="4038480"/>
              <a:ext cx="647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156000" y="4038480"/>
              <a:ext cx="57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95640" y="2778120"/>
              <a:ext cx="4537080" cy="792000"/>
            </a:xfrm>
            <a:custGeom>
              <a:avLst/>
              <a:gdLst/>
              <a:ahLst/>
              <a:rect l="l" t="t" r="r" b="b"/>
              <a:pathLst>
                <a:path w="2858" h="499">
                  <a:moveTo>
                    <a:pt x="0" y="499"/>
                  </a:moveTo>
                  <a:lnTo>
                    <a:pt x="273" y="499"/>
                  </a:lnTo>
                  <a:lnTo>
                    <a:pt x="273" y="0"/>
                  </a:lnTo>
                  <a:lnTo>
                    <a:pt x="726" y="0"/>
                  </a:lnTo>
                  <a:lnTo>
                    <a:pt x="726" y="499"/>
                  </a:lnTo>
                  <a:lnTo>
                    <a:pt x="1180" y="499"/>
                  </a:lnTo>
                  <a:lnTo>
                    <a:pt x="1180" y="0"/>
                  </a:lnTo>
                  <a:lnTo>
                    <a:pt x="1633" y="0"/>
                  </a:lnTo>
                  <a:lnTo>
                    <a:pt x="1633" y="499"/>
                  </a:lnTo>
                  <a:lnTo>
                    <a:pt x="2042" y="499"/>
                  </a:lnTo>
                  <a:lnTo>
                    <a:pt x="2042" y="0"/>
                  </a:lnTo>
                  <a:lnTo>
                    <a:pt x="2495" y="0"/>
                  </a:lnTo>
                  <a:lnTo>
                    <a:pt x="2495" y="499"/>
                  </a:lnTo>
                  <a:lnTo>
                    <a:pt x="2858" y="499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771280" y="4289400"/>
            <a:ext cx="3815640" cy="1302120"/>
            <a:chOff x="2771280" y="4289400"/>
            <a:chExt cx="3815640" cy="1302120"/>
          </a:xfrm>
        </p:grpSpPr>
        <p:sp>
          <p:nvSpPr>
            <p:cNvPr id="769" name=""/>
            <p:cNvSpPr/>
            <p:nvPr/>
          </p:nvSpPr>
          <p:spPr>
            <a:xfrm>
              <a:off x="2771280" y="5010120"/>
              <a:ext cx="38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Arial"/>
                </a:rPr>
                <a:t>Doesn’t end on ze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3419280" y="4289400"/>
              <a:ext cx="360360" cy="7207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4572000" y="4505040"/>
              <a:ext cx="144360" cy="576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580000" y="4433760"/>
              <a:ext cx="504720" cy="7207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rcRect l="2573" t="32681" r="4965" b="34729"/>
          <a:stretch/>
        </p:blipFill>
        <p:spPr>
          <a:xfrm>
            <a:off x="125280" y="260280"/>
            <a:ext cx="9018720" cy="2303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476360" y="2584440"/>
            <a:ext cx="6156360" cy="43005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rcRect l="4965" t="33695" r="5696" b="35738"/>
          <a:stretch/>
        </p:blipFill>
        <p:spPr>
          <a:xfrm>
            <a:off x="250920" y="333360"/>
            <a:ext cx="8713800" cy="216072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4"/>
          <a:srcRect l="3319" t="31673" r="5500" b="32681"/>
          <a:stretch/>
        </p:blipFill>
        <p:spPr>
          <a:xfrm>
            <a:off x="179280" y="115920"/>
            <a:ext cx="8893440" cy="25192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5"/>
          <a:stretch/>
        </p:blipFill>
        <p:spPr>
          <a:xfrm>
            <a:off x="1476360" y="2532240"/>
            <a:ext cx="6191280" cy="43257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6"/>
          <a:stretch/>
        </p:blipFill>
        <p:spPr>
          <a:xfrm>
            <a:off x="1476360" y="2557440"/>
            <a:ext cx="6156360" cy="430056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7"/>
          <a:srcRect l="3127" t="31673" r="4965" b="34729"/>
          <a:stretch/>
        </p:blipFill>
        <p:spPr>
          <a:xfrm>
            <a:off x="179280" y="189000"/>
            <a:ext cx="8964720" cy="237492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8"/>
          <a:srcRect l="4965" t="31673" r="5696" b="34729"/>
          <a:stretch/>
        </p:blipFill>
        <p:spPr>
          <a:xfrm>
            <a:off x="250920" y="189000"/>
            <a:ext cx="8713800" cy="23749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1476360" y="2565360"/>
            <a:ext cx="6191280" cy="43243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"/>
          <a:stretch/>
        </p:blipFill>
        <p:spPr>
          <a:xfrm>
            <a:off x="1476360" y="2565360"/>
            <a:ext cx="6191280" cy="43243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11"/>
          <a:srcRect l="3127" t="32681" r="4965" b="35738"/>
          <a:stretch/>
        </p:blipFill>
        <p:spPr>
          <a:xfrm>
            <a:off x="71280" y="333360"/>
            <a:ext cx="8964720" cy="2232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1836720" y="5300640"/>
            <a:ext cx="2076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2662920" y="3753360"/>
            <a:ext cx="360360" cy="244800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79280" y="69228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dwidth is the range of frequencies used in the carrier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9280" y="2266920"/>
            <a:ext cx="89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e higher the “base” frequency the broader the bandwid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5084640"/>
            <a:ext cx="87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Bandwidth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x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aximum digital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8760" y="400536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purposes we can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76200" y="46656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utilise high frequency communications i.e. high carrier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17440" y="184464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ultiplex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9640" y="3068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nsfer data at maximum rate of carrier, then use the slack time between samples to send another separat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53720" y="3124080"/>
            <a:ext cx="8562240" cy="1648080"/>
            <a:chOff x="153720" y="3124080"/>
            <a:chExt cx="8562240" cy="1648080"/>
          </a:xfrm>
        </p:grpSpPr>
        <p:sp>
          <p:nvSpPr>
            <p:cNvPr id="794" name=""/>
            <p:cNvSpPr/>
            <p:nvPr/>
          </p:nvSpPr>
          <p:spPr>
            <a:xfrm>
              <a:off x="380880" y="3352680"/>
              <a:ext cx="8077320" cy="15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37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312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321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1560" y="3657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380880" y="3124080"/>
              <a:ext cx="7467840" cy="533520"/>
              <a:chOff x="380880" y="3124080"/>
              <a:chExt cx="7467840" cy="533520"/>
            </a:xfrm>
          </p:grpSpPr>
          <p:sp>
            <p:nvSpPr>
              <p:cNvPr id="800" name=""/>
              <p:cNvSpPr/>
              <p:nvPr/>
            </p:nvSpPr>
            <p:spPr>
              <a:xfrm flipV="1">
                <a:off x="3808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287028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3593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848720" y="31240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315920" y="4190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ime/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27160" y="38088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ample is 3 bits long (000, 010, 110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9120" y="1197000"/>
            <a:ext cx="52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ransfer rate very hig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80360" y="2492280"/>
            <a:ext cx="5952240" cy="581400"/>
            <a:chOff x="180360" y="2492280"/>
            <a:chExt cx="5952240" cy="581400"/>
          </a:xfrm>
        </p:grpSpPr>
        <p:grpSp>
          <p:nvGrpSpPr>
            <p:cNvPr id="808" name=""/>
            <p:cNvGrpSpPr/>
            <p:nvPr/>
          </p:nvGrpSpPr>
          <p:grpSpPr>
            <a:xfrm>
              <a:off x="180360" y="2492280"/>
              <a:ext cx="911880" cy="581400"/>
              <a:chOff x="180360" y="2492280"/>
              <a:chExt cx="911880" cy="581400"/>
            </a:xfrm>
          </p:grpSpPr>
          <p:sp>
            <p:nvSpPr>
              <p:cNvPr id="809" name=""/>
              <p:cNvSpPr/>
              <p:nvPr/>
            </p:nvSpPr>
            <p:spPr>
              <a:xfrm>
                <a:off x="1803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33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2701440" y="2492280"/>
              <a:ext cx="911880" cy="581400"/>
              <a:chOff x="2701440" y="2492280"/>
              <a:chExt cx="91188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701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54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068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220720" y="2492280"/>
              <a:ext cx="911880" cy="581400"/>
              <a:chOff x="5220720" y="2492280"/>
              <a:chExt cx="911880" cy="581400"/>
            </a:xfrm>
          </p:grpSpPr>
          <p:sp>
            <p:nvSpPr>
              <p:cNvPr id="817" name=""/>
              <p:cNvSpPr/>
              <p:nvPr/>
            </p:nvSpPr>
            <p:spPr>
              <a:xfrm>
                <a:off x="52207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473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26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972720" y="2489040"/>
            <a:ext cx="5952240" cy="584640"/>
            <a:chOff x="972720" y="2489040"/>
            <a:chExt cx="5952240" cy="584640"/>
          </a:xfrm>
        </p:grpSpPr>
        <p:grpSp>
          <p:nvGrpSpPr>
            <p:cNvPr id="821" name=""/>
            <p:cNvGrpSpPr/>
            <p:nvPr/>
          </p:nvGrpSpPr>
          <p:grpSpPr>
            <a:xfrm>
              <a:off x="972720" y="2492280"/>
              <a:ext cx="911880" cy="581400"/>
              <a:chOff x="972720" y="2492280"/>
              <a:chExt cx="91188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9727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25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78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3493440" y="2492280"/>
              <a:ext cx="911880" cy="581400"/>
              <a:chOff x="3493440" y="2492280"/>
              <a:chExt cx="911880" cy="581400"/>
            </a:xfrm>
          </p:grpSpPr>
          <p:sp>
            <p:nvSpPr>
              <p:cNvPr id="826" name=""/>
              <p:cNvSpPr/>
              <p:nvPr/>
            </p:nvSpPr>
            <p:spPr>
              <a:xfrm>
                <a:off x="349344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461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9988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6013080" y="2489040"/>
              <a:ext cx="911880" cy="581400"/>
              <a:chOff x="6013080" y="2489040"/>
              <a:chExt cx="911880" cy="581400"/>
            </a:xfrm>
          </p:grpSpPr>
          <p:sp>
            <p:nvSpPr>
              <p:cNvPr id="830" name=""/>
              <p:cNvSpPr/>
              <p:nvPr/>
            </p:nvSpPr>
            <p:spPr>
              <a:xfrm>
                <a:off x="601308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6580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1852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99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1836360" y="2489040"/>
            <a:ext cx="5952240" cy="584640"/>
            <a:chOff x="1836360" y="2489040"/>
            <a:chExt cx="5952240" cy="584640"/>
          </a:xfrm>
        </p:grpSpPr>
        <p:grpSp>
          <p:nvGrpSpPr>
            <p:cNvPr id="834" name=""/>
            <p:cNvGrpSpPr/>
            <p:nvPr/>
          </p:nvGrpSpPr>
          <p:grpSpPr>
            <a:xfrm>
              <a:off x="1836360" y="2492280"/>
              <a:ext cx="911880" cy="581400"/>
              <a:chOff x="1836360" y="2492280"/>
              <a:chExt cx="911880" cy="581400"/>
            </a:xfrm>
          </p:grpSpPr>
          <p:sp>
            <p:nvSpPr>
              <p:cNvPr id="835" name=""/>
              <p:cNvSpPr/>
              <p:nvPr/>
            </p:nvSpPr>
            <p:spPr>
              <a:xfrm>
                <a:off x="183636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089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41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357080" y="2492280"/>
              <a:ext cx="911880" cy="581400"/>
              <a:chOff x="4357080" y="2492280"/>
              <a:chExt cx="91188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435708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60980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62520" y="2492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6876720" y="2489040"/>
              <a:ext cx="911880" cy="581400"/>
              <a:chOff x="6876720" y="2489040"/>
              <a:chExt cx="911880" cy="581400"/>
            </a:xfrm>
          </p:grpSpPr>
          <p:sp>
            <p:nvSpPr>
              <p:cNvPr id="843" name=""/>
              <p:cNvSpPr/>
              <p:nvPr/>
            </p:nvSpPr>
            <p:spPr>
              <a:xfrm>
                <a:off x="687672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12944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382160" y="24890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"/>
          <p:cNvSpPr/>
          <p:nvPr/>
        </p:nvSpPr>
        <p:spPr>
          <a:xfrm>
            <a:off x="1906200" y="479736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eparate con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96000" y="33336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is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908000" y="333360"/>
            <a:ext cx="69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om signal fluctuations added to transmitted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3120" y="18352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asier to extract original signal from digital rather than analogu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rcRect l="0" t="39791" r="0" b="37219"/>
          <a:stretch/>
        </p:blipFill>
        <p:spPr>
          <a:xfrm>
            <a:off x="468360" y="3454560"/>
            <a:ext cx="8209080" cy="248436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rcRect l="0" t="5953" r="0" b="67050"/>
          <a:stretch/>
        </p:blipFill>
        <p:spPr>
          <a:xfrm>
            <a:off x="395280" y="3213000"/>
            <a:ext cx="8352000" cy="297036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3"/>
          <a:srcRect l="0" t="72748" r="0" b="3105"/>
          <a:stretch/>
        </p:blipFill>
        <p:spPr>
          <a:xfrm>
            <a:off x="395280" y="3357720"/>
            <a:ext cx="835344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1619280" y="2549520"/>
            <a:ext cx="5689080" cy="2858760"/>
            <a:chOff x="1619280" y="2549520"/>
            <a:chExt cx="5689080" cy="2858760"/>
          </a:xfrm>
        </p:grpSpPr>
        <p:sp>
          <p:nvSpPr>
            <p:cNvPr id="854" name=""/>
            <p:cNvSpPr/>
            <p:nvPr/>
          </p:nvSpPr>
          <p:spPr>
            <a:xfrm>
              <a:off x="1619280" y="520272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19280" y="47944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19280" y="43862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19280" y="37746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19280" y="33660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19280" y="29574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19280" y="254952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19280" y="39776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19280" y="356904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19280" y="316116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19280" y="275256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19280" y="54082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19280" y="49996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19280" y="459108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19280" y="4183200"/>
              <a:ext cx="56890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50200" y="189000"/>
            <a:ext cx="57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voltage re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8200" y="692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difference in voltage between consecutive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3840" y="1413000"/>
            <a:ext cx="86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f noise is bigger than voltage resolution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70560" y="6089760"/>
            <a:ext cx="68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point having such good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619280" y="220032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19280" y="2602080"/>
            <a:ext cx="5449680" cy="3132000"/>
          </a:xfrm>
          <a:custGeom>
            <a:avLst/>
            <a:gdLst/>
            <a:ahLst/>
            <a:rect l="l" t="t" r="r" b="b"/>
            <a:pathLst>
              <a:path w="2177" h="1105">
                <a:moveTo>
                  <a:pt x="0" y="802"/>
                </a:moveTo>
                <a:cubicBezTo>
                  <a:pt x="79" y="907"/>
                  <a:pt x="159" y="1013"/>
                  <a:pt x="227" y="938"/>
                </a:cubicBezTo>
                <a:cubicBezTo>
                  <a:pt x="295" y="863"/>
                  <a:pt x="340" y="500"/>
                  <a:pt x="408" y="349"/>
                </a:cubicBezTo>
                <a:cubicBezTo>
                  <a:pt x="476" y="198"/>
                  <a:pt x="529" y="16"/>
                  <a:pt x="635" y="31"/>
                </a:cubicBezTo>
                <a:cubicBezTo>
                  <a:pt x="741" y="46"/>
                  <a:pt x="915" y="280"/>
                  <a:pt x="1043" y="439"/>
                </a:cubicBezTo>
                <a:cubicBezTo>
                  <a:pt x="1171" y="598"/>
                  <a:pt x="1308" y="1022"/>
                  <a:pt x="1406" y="984"/>
                </a:cubicBezTo>
                <a:cubicBezTo>
                  <a:pt x="1504" y="946"/>
                  <a:pt x="1580" y="281"/>
                  <a:pt x="1633" y="213"/>
                </a:cubicBezTo>
                <a:cubicBezTo>
                  <a:pt x="1686" y="145"/>
                  <a:pt x="1694" y="598"/>
                  <a:pt x="1724" y="575"/>
                </a:cubicBezTo>
                <a:cubicBezTo>
                  <a:pt x="1754" y="552"/>
                  <a:pt x="1769" y="0"/>
                  <a:pt x="1814" y="76"/>
                </a:cubicBezTo>
                <a:cubicBezTo>
                  <a:pt x="1859" y="152"/>
                  <a:pt x="1936" y="953"/>
                  <a:pt x="1996" y="1029"/>
                </a:cubicBezTo>
                <a:cubicBezTo>
                  <a:pt x="2056" y="1105"/>
                  <a:pt x="2116" y="817"/>
                  <a:pt x="2177" y="53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1619280" y="2489040"/>
            <a:ext cx="5546160" cy="3244680"/>
            <a:chOff x="1619280" y="2489040"/>
            <a:chExt cx="5546160" cy="3244680"/>
          </a:xfrm>
        </p:grpSpPr>
        <p:sp>
          <p:nvSpPr>
            <p:cNvPr id="876" name=""/>
            <p:cNvSpPr/>
            <p:nvPr/>
          </p:nvSpPr>
          <p:spPr>
            <a:xfrm>
              <a:off x="1619280" y="2489040"/>
              <a:ext cx="3782520" cy="3185280"/>
            </a:xfrm>
            <a:custGeom>
              <a:avLst/>
              <a:gdLst/>
              <a:ahLst/>
              <a:rect l="l" t="t" r="r" b="b"/>
              <a:pathLst>
                <a:path w="3062" h="2404">
                  <a:moveTo>
                    <a:pt x="0" y="1905"/>
                  </a:moveTo>
                  <a:lnTo>
                    <a:pt x="90" y="1769"/>
                  </a:lnTo>
                  <a:lnTo>
                    <a:pt x="136" y="2132"/>
                  </a:lnTo>
                  <a:lnTo>
                    <a:pt x="181" y="2041"/>
                  </a:lnTo>
                  <a:lnTo>
                    <a:pt x="181" y="2222"/>
                  </a:lnTo>
                  <a:lnTo>
                    <a:pt x="226" y="1950"/>
                  </a:lnTo>
                  <a:lnTo>
                    <a:pt x="317" y="2404"/>
                  </a:lnTo>
                  <a:lnTo>
                    <a:pt x="317" y="1996"/>
                  </a:lnTo>
                  <a:lnTo>
                    <a:pt x="408" y="2132"/>
                  </a:lnTo>
                  <a:lnTo>
                    <a:pt x="453" y="1905"/>
                  </a:lnTo>
                  <a:lnTo>
                    <a:pt x="499" y="2132"/>
                  </a:lnTo>
                  <a:lnTo>
                    <a:pt x="453" y="1769"/>
                  </a:lnTo>
                  <a:lnTo>
                    <a:pt x="544" y="1996"/>
                  </a:lnTo>
                  <a:lnTo>
                    <a:pt x="544" y="1587"/>
                  </a:lnTo>
                  <a:lnTo>
                    <a:pt x="589" y="1769"/>
                  </a:lnTo>
                  <a:lnTo>
                    <a:pt x="680" y="1224"/>
                  </a:lnTo>
                  <a:lnTo>
                    <a:pt x="680" y="1451"/>
                  </a:lnTo>
                  <a:lnTo>
                    <a:pt x="725" y="1088"/>
                  </a:lnTo>
                  <a:lnTo>
                    <a:pt x="725" y="816"/>
                  </a:lnTo>
                  <a:lnTo>
                    <a:pt x="725" y="952"/>
                  </a:lnTo>
                  <a:lnTo>
                    <a:pt x="816" y="589"/>
                  </a:lnTo>
                  <a:lnTo>
                    <a:pt x="816" y="952"/>
                  </a:lnTo>
                  <a:lnTo>
                    <a:pt x="861" y="1043"/>
                  </a:lnTo>
                  <a:lnTo>
                    <a:pt x="907" y="408"/>
                  </a:lnTo>
                  <a:lnTo>
                    <a:pt x="952" y="635"/>
                  </a:lnTo>
                  <a:lnTo>
                    <a:pt x="998" y="317"/>
                  </a:lnTo>
                  <a:lnTo>
                    <a:pt x="998" y="91"/>
                  </a:lnTo>
                  <a:lnTo>
                    <a:pt x="1043" y="317"/>
                  </a:lnTo>
                  <a:lnTo>
                    <a:pt x="1088" y="91"/>
                  </a:lnTo>
                  <a:lnTo>
                    <a:pt x="1088" y="317"/>
                  </a:lnTo>
                  <a:lnTo>
                    <a:pt x="1134" y="0"/>
                  </a:lnTo>
                  <a:lnTo>
                    <a:pt x="1224" y="453"/>
                  </a:lnTo>
                  <a:lnTo>
                    <a:pt x="1270" y="45"/>
                  </a:lnTo>
                  <a:lnTo>
                    <a:pt x="1360" y="453"/>
                  </a:lnTo>
                  <a:lnTo>
                    <a:pt x="1406" y="181"/>
                  </a:lnTo>
                  <a:lnTo>
                    <a:pt x="1406" y="91"/>
                  </a:lnTo>
                  <a:lnTo>
                    <a:pt x="1496" y="453"/>
                  </a:lnTo>
                  <a:lnTo>
                    <a:pt x="1451" y="680"/>
                  </a:lnTo>
                  <a:lnTo>
                    <a:pt x="1542" y="453"/>
                  </a:lnTo>
                  <a:lnTo>
                    <a:pt x="1587" y="227"/>
                  </a:lnTo>
                  <a:lnTo>
                    <a:pt x="1587" y="635"/>
                  </a:lnTo>
                  <a:lnTo>
                    <a:pt x="1633" y="499"/>
                  </a:lnTo>
                  <a:lnTo>
                    <a:pt x="1678" y="726"/>
                  </a:lnTo>
                  <a:lnTo>
                    <a:pt x="1769" y="453"/>
                  </a:lnTo>
                  <a:lnTo>
                    <a:pt x="1814" y="544"/>
                  </a:lnTo>
                  <a:lnTo>
                    <a:pt x="1814" y="771"/>
                  </a:lnTo>
                  <a:lnTo>
                    <a:pt x="1814" y="907"/>
                  </a:lnTo>
                  <a:lnTo>
                    <a:pt x="1814" y="680"/>
                  </a:lnTo>
                  <a:lnTo>
                    <a:pt x="1859" y="907"/>
                  </a:lnTo>
                  <a:lnTo>
                    <a:pt x="1905" y="726"/>
                  </a:lnTo>
                  <a:lnTo>
                    <a:pt x="1950" y="998"/>
                  </a:lnTo>
                  <a:lnTo>
                    <a:pt x="2041" y="816"/>
                  </a:lnTo>
                  <a:lnTo>
                    <a:pt x="2041" y="952"/>
                  </a:lnTo>
                  <a:lnTo>
                    <a:pt x="2086" y="726"/>
                  </a:lnTo>
                  <a:lnTo>
                    <a:pt x="2086" y="998"/>
                  </a:lnTo>
                  <a:lnTo>
                    <a:pt x="2131" y="907"/>
                  </a:lnTo>
                  <a:lnTo>
                    <a:pt x="2131" y="1224"/>
                  </a:lnTo>
                  <a:lnTo>
                    <a:pt x="2131" y="1406"/>
                  </a:lnTo>
                  <a:lnTo>
                    <a:pt x="2177" y="1179"/>
                  </a:lnTo>
                  <a:lnTo>
                    <a:pt x="2177" y="1315"/>
                  </a:lnTo>
                  <a:lnTo>
                    <a:pt x="2222" y="1088"/>
                  </a:lnTo>
                  <a:lnTo>
                    <a:pt x="2268" y="1270"/>
                  </a:lnTo>
                  <a:lnTo>
                    <a:pt x="2268" y="1451"/>
                  </a:lnTo>
                  <a:lnTo>
                    <a:pt x="2313" y="1406"/>
                  </a:lnTo>
                  <a:lnTo>
                    <a:pt x="2358" y="1361"/>
                  </a:lnTo>
                  <a:lnTo>
                    <a:pt x="2358" y="1678"/>
                  </a:lnTo>
                  <a:lnTo>
                    <a:pt x="2404" y="1542"/>
                  </a:lnTo>
                  <a:lnTo>
                    <a:pt x="2494" y="1860"/>
                  </a:lnTo>
                  <a:lnTo>
                    <a:pt x="2540" y="1678"/>
                  </a:lnTo>
                  <a:lnTo>
                    <a:pt x="2540" y="1814"/>
                  </a:lnTo>
                  <a:lnTo>
                    <a:pt x="2540" y="2041"/>
                  </a:lnTo>
                  <a:lnTo>
                    <a:pt x="2585" y="1905"/>
                  </a:lnTo>
                  <a:lnTo>
                    <a:pt x="2585" y="2177"/>
                  </a:lnTo>
                  <a:lnTo>
                    <a:pt x="2630" y="2132"/>
                  </a:lnTo>
                  <a:lnTo>
                    <a:pt x="2676" y="2313"/>
                  </a:lnTo>
                  <a:lnTo>
                    <a:pt x="2676" y="1996"/>
                  </a:lnTo>
                  <a:lnTo>
                    <a:pt x="2721" y="2268"/>
                  </a:lnTo>
                  <a:lnTo>
                    <a:pt x="2767" y="2041"/>
                  </a:lnTo>
                  <a:lnTo>
                    <a:pt x="2812" y="2086"/>
                  </a:lnTo>
                  <a:lnTo>
                    <a:pt x="2812" y="1950"/>
                  </a:lnTo>
                  <a:lnTo>
                    <a:pt x="2857" y="2132"/>
                  </a:lnTo>
                  <a:lnTo>
                    <a:pt x="2857" y="2404"/>
                  </a:lnTo>
                  <a:lnTo>
                    <a:pt x="2903" y="2177"/>
                  </a:lnTo>
                  <a:lnTo>
                    <a:pt x="2948" y="2041"/>
                  </a:lnTo>
                  <a:lnTo>
                    <a:pt x="2993" y="1769"/>
                  </a:lnTo>
                  <a:lnTo>
                    <a:pt x="3062" y="2039"/>
                  </a:lnTo>
                </a:path>
              </a:pathLst>
            </a:custGeom>
            <a:noFill/>
            <a:ln w="381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73360" y="2669040"/>
              <a:ext cx="1792080" cy="3064680"/>
            </a:xfrm>
            <a:custGeom>
              <a:avLst/>
              <a:gdLst/>
              <a:ahLst/>
              <a:rect l="l" t="t" r="r" b="b"/>
              <a:pathLst>
                <a:path w="1451" h="2313">
                  <a:moveTo>
                    <a:pt x="0" y="1905"/>
                  </a:moveTo>
                  <a:lnTo>
                    <a:pt x="0" y="1361"/>
                  </a:lnTo>
                  <a:lnTo>
                    <a:pt x="45" y="1497"/>
                  </a:lnTo>
                  <a:lnTo>
                    <a:pt x="45" y="1134"/>
                  </a:lnTo>
                  <a:lnTo>
                    <a:pt x="90" y="1406"/>
                  </a:lnTo>
                  <a:lnTo>
                    <a:pt x="90" y="952"/>
                  </a:lnTo>
                  <a:lnTo>
                    <a:pt x="90" y="590"/>
                  </a:lnTo>
                  <a:lnTo>
                    <a:pt x="136" y="816"/>
                  </a:lnTo>
                  <a:lnTo>
                    <a:pt x="136" y="544"/>
                  </a:lnTo>
                  <a:lnTo>
                    <a:pt x="136" y="907"/>
                  </a:lnTo>
                  <a:lnTo>
                    <a:pt x="136" y="1043"/>
                  </a:lnTo>
                  <a:lnTo>
                    <a:pt x="181" y="544"/>
                  </a:lnTo>
                  <a:lnTo>
                    <a:pt x="226" y="816"/>
                  </a:lnTo>
                  <a:lnTo>
                    <a:pt x="226" y="453"/>
                  </a:lnTo>
                  <a:lnTo>
                    <a:pt x="272" y="680"/>
                  </a:lnTo>
                  <a:lnTo>
                    <a:pt x="272" y="408"/>
                  </a:lnTo>
                  <a:lnTo>
                    <a:pt x="363" y="680"/>
                  </a:lnTo>
                  <a:lnTo>
                    <a:pt x="363" y="363"/>
                  </a:lnTo>
                  <a:lnTo>
                    <a:pt x="408" y="816"/>
                  </a:lnTo>
                  <a:lnTo>
                    <a:pt x="408" y="1270"/>
                  </a:lnTo>
                  <a:lnTo>
                    <a:pt x="453" y="952"/>
                  </a:lnTo>
                  <a:lnTo>
                    <a:pt x="499" y="1043"/>
                  </a:lnTo>
                  <a:lnTo>
                    <a:pt x="499" y="635"/>
                  </a:lnTo>
                  <a:lnTo>
                    <a:pt x="544" y="862"/>
                  </a:lnTo>
                  <a:lnTo>
                    <a:pt x="544" y="317"/>
                  </a:lnTo>
                  <a:lnTo>
                    <a:pt x="589" y="499"/>
                  </a:lnTo>
                  <a:lnTo>
                    <a:pt x="589" y="0"/>
                  </a:lnTo>
                  <a:lnTo>
                    <a:pt x="680" y="680"/>
                  </a:lnTo>
                  <a:lnTo>
                    <a:pt x="680" y="317"/>
                  </a:lnTo>
                  <a:lnTo>
                    <a:pt x="771" y="726"/>
                  </a:lnTo>
                  <a:lnTo>
                    <a:pt x="816" y="453"/>
                  </a:lnTo>
                  <a:lnTo>
                    <a:pt x="816" y="726"/>
                  </a:lnTo>
                  <a:lnTo>
                    <a:pt x="816" y="816"/>
                  </a:lnTo>
                  <a:lnTo>
                    <a:pt x="862" y="726"/>
                  </a:lnTo>
                  <a:lnTo>
                    <a:pt x="862" y="1088"/>
                  </a:lnTo>
                  <a:lnTo>
                    <a:pt x="862" y="1633"/>
                  </a:lnTo>
                  <a:lnTo>
                    <a:pt x="907" y="1451"/>
                  </a:lnTo>
                  <a:lnTo>
                    <a:pt x="907" y="1996"/>
                  </a:lnTo>
                  <a:lnTo>
                    <a:pt x="998" y="1860"/>
                  </a:lnTo>
                  <a:lnTo>
                    <a:pt x="998" y="1996"/>
                  </a:lnTo>
                  <a:lnTo>
                    <a:pt x="1043" y="1860"/>
                  </a:lnTo>
                  <a:lnTo>
                    <a:pt x="1043" y="2086"/>
                  </a:lnTo>
                  <a:lnTo>
                    <a:pt x="1088" y="2313"/>
                  </a:lnTo>
                  <a:lnTo>
                    <a:pt x="1088" y="1905"/>
                  </a:lnTo>
                  <a:lnTo>
                    <a:pt x="1179" y="2132"/>
                  </a:lnTo>
                  <a:lnTo>
                    <a:pt x="1179" y="1678"/>
                  </a:lnTo>
                  <a:lnTo>
                    <a:pt x="1315" y="1950"/>
                  </a:lnTo>
                  <a:lnTo>
                    <a:pt x="1270" y="1406"/>
                  </a:lnTo>
                  <a:lnTo>
                    <a:pt x="1406" y="1497"/>
                  </a:lnTo>
                  <a:lnTo>
                    <a:pt x="1360" y="1179"/>
                  </a:lnTo>
                  <a:lnTo>
                    <a:pt x="1406" y="1043"/>
                  </a:lnTo>
                  <a:lnTo>
                    <a:pt x="1451" y="1270"/>
                  </a:lnTo>
                </a:path>
              </a:pathLst>
            </a:custGeom>
            <a:noFill/>
            <a:ln w="38160">
              <a:solidFill>
                <a:srgbClr val="cc00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1655640" y="5656320"/>
            <a:ext cx="56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01800" y="2182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381800" y="55656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182600" y="1341360"/>
            <a:ext cx="7926840" cy="4562280"/>
            <a:chOff x="1182600" y="1341360"/>
            <a:chExt cx="7926840" cy="4562280"/>
          </a:xfrm>
        </p:grpSpPr>
        <p:grpSp>
          <p:nvGrpSpPr>
            <p:cNvPr id="151" name=""/>
            <p:cNvGrpSpPr/>
            <p:nvPr/>
          </p:nvGrpSpPr>
          <p:grpSpPr>
            <a:xfrm>
              <a:off x="1182600" y="2022480"/>
              <a:ext cx="7640280" cy="3881160"/>
              <a:chOff x="1182600" y="2022480"/>
              <a:chExt cx="7640280" cy="3881160"/>
            </a:xfrm>
          </p:grpSpPr>
          <p:sp>
            <p:nvSpPr>
              <p:cNvPr id="152" name=""/>
              <p:cNvSpPr/>
              <p:nvPr/>
            </p:nvSpPr>
            <p:spPr>
              <a:xfrm>
                <a:off x="1184400" y="23796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82600" y="28638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82600" y="33480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82600" y="38322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2600" y="43178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2600" y="48020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82600" y="52862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44160" y="5383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42360" y="4871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44160" y="4397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44160" y="3938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42360" y="3463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42360" y="3062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42360" y="2530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42360" y="2022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7957800" y="134136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4360" y="5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measured voltages us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59680" y="6021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2457360"/>
            <a:ext cx="6100920" cy="3301920"/>
            <a:chOff x="1600200" y="2457360"/>
            <a:chExt cx="6100920" cy="3301920"/>
          </a:xfrm>
        </p:grpSpPr>
        <p:sp>
          <p:nvSpPr>
            <p:cNvPr id="171" name=""/>
            <p:cNvSpPr/>
            <p:nvPr/>
          </p:nvSpPr>
          <p:spPr>
            <a:xfrm flipV="1">
              <a:off x="1600200" y="398052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108160" y="2729880"/>
              <a:ext cx="0" cy="30286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617920" y="2964600"/>
              <a:ext cx="0" cy="2793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125880" y="4870440"/>
              <a:ext cx="0" cy="888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33840" y="2457360"/>
              <a:ext cx="0" cy="3301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142520" y="258444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650480" y="334548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158440" y="525132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666760" y="500364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175080" y="398052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84480" y="258444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192800" y="309204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701120" y="513756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211400" y="1700280"/>
            <a:ext cx="0" cy="4056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1400" y="5756400"/>
            <a:ext cx="715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235080" y="25131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7176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5400" y="3500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6048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8752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8480" y="443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9552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7648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03520" y="29973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08240" y="4941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60840" y="443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92480" y="3500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21320" y="2057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72120" y="2562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29320" y="4941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44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4284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5260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6200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1520" y="5873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31040" y="5873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0068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1640" y="5873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4188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2272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332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2360" y="587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5092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levels controlled by magnitude of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700360" y="1268280"/>
            <a:ext cx="2631960" cy="1508040"/>
            <a:chOff x="2700360" y="1268280"/>
            <a:chExt cx="2631960" cy="1508040"/>
          </a:xfrm>
        </p:grpSpPr>
        <p:sp>
          <p:nvSpPr>
            <p:cNvPr id="883" name=""/>
            <p:cNvSpPr/>
            <p:nvPr/>
          </p:nvSpPr>
          <p:spPr>
            <a:xfrm>
              <a:off x="2700360" y="1268280"/>
              <a:ext cx="2467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GB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ma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56160" y="1989000"/>
              <a:ext cx="1676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no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6160" y="206064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363640" y="2567160"/>
            <a:ext cx="35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883880" y="3284640"/>
            <a:ext cx="51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If V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Arial"/>
              </a:rPr>
              <a:t>noise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large then 2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is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684440" y="4100400"/>
            <a:ext cx="55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wer bits required to b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65160" y="491652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wer transfer rat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99360" y="573264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maller bandwidth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460760" y="37879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60760" y="465300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60760" y="544500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5300640"/>
            <a:ext cx="8066160" cy="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2320" y="483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2320" y="14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9000" y="5229360"/>
            <a:ext cx="8226000" cy="1600920"/>
            <a:chOff x="459000" y="5229360"/>
            <a:chExt cx="8226000" cy="1600920"/>
          </a:xfrm>
        </p:grpSpPr>
        <p:sp>
          <p:nvSpPr>
            <p:cNvPr id="217" name=""/>
            <p:cNvSpPr/>
            <p:nvPr/>
          </p:nvSpPr>
          <p:spPr>
            <a:xfrm>
              <a:off x="838080" y="5991480"/>
              <a:ext cx="1905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3182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53056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5305680"/>
              <a:ext cx="0" cy="10666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9600" y="52293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57628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8080" y="5762880"/>
              <a:ext cx="19051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000" y="630972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66"/>
                  </a:solidFill>
                  <a:latin typeface="Arial"/>
                </a:rPr>
                <a:t>No signal s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7080" y="630972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66"/>
                  </a:solidFill>
                  <a:latin typeface="Arial"/>
                </a:rPr>
                <a:t>No signal s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743200" y="1681200"/>
            <a:ext cx="3581280" cy="3665520"/>
          </a:xfrm>
          <a:custGeom>
            <a:avLst/>
            <a:gdLst/>
            <a:ahLst/>
            <a:rect l="l" t="t" r="r" b="b"/>
            <a:pathLst>
              <a:path w="2256" h="2256">
                <a:moveTo>
                  <a:pt x="0" y="2256"/>
                </a:moveTo>
                <a:lnTo>
                  <a:pt x="0" y="0"/>
                </a:lnTo>
                <a:lnTo>
                  <a:pt x="768" y="0"/>
                </a:lnTo>
                <a:lnTo>
                  <a:pt x="768" y="2208"/>
                </a:lnTo>
                <a:lnTo>
                  <a:pt x="1488" y="2208"/>
                </a:lnTo>
                <a:lnTo>
                  <a:pt x="1488" y="0"/>
                </a:lnTo>
                <a:lnTo>
                  <a:pt x="2256" y="0"/>
                </a:lnTo>
                <a:lnTo>
                  <a:pt x="2256" y="2208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43200" y="5262480"/>
            <a:ext cx="3581280" cy="1418760"/>
            <a:chOff x="2743200" y="5262480"/>
            <a:chExt cx="3581280" cy="1418760"/>
          </a:xfrm>
        </p:grpSpPr>
        <p:sp>
          <p:nvSpPr>
            <p:cNvPr id="228" name=""/>
            <p:cNvSpPr/>
            <p:nvPr/>
          </p:nvSpPr>
          <p:spPr>
            <a:xfrm>
              <a:off x="2743200" y="526248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526248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5719680"/>
              <a:ext cx="3581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2880" y="6099840"/>
              <a:ext cx="30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ngth of sig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700360" y="765000"/>
            <a:ext cx="3672000" cy="635040"/>
            <a:chOff x="2700360" y="765000"/>
            <a:chExt cx="3672000" cy="635040"/>
          </a:xfrm>
        </p:grpSpPr>
        <p:sp>
          <p:nvSpPr>
            <p:cNvPr id="233" name=""/>
            <p:cNvSpPr/>
            <p:nvPr/>
          </p:nvSpPr>
          <p:spPr>
            <a:xfrm>
              <a:off x="2700360" y="140004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24360" y="1400040"/>
              <a:ext cx="1152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6720" y="1400040"/>
              <a:ext cx="1295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508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9744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21440" y="7650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1 b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26920" y="1701720"/>
            <a:ext cx="8066160" cy="0"/>
          </a:xfrm>
          <a:prstGeom prst="line">
            <a:avLst/>
          </a:prstGeom>
          <a:ln cap="rnd" w="1260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8920" y="189000"/>
            <a:ext cx="74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representation of digital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3360" y="38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20040" y="38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3801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801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040" y="1370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2720" y="1370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0040" y="2894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42720" y="2894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0040" y="441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42720" y="441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040" y="594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42720" y="5942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30160" y="380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96480" y="38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76480" y="1370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9520" y="1370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76480" y="2894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9520" y="2894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76480" y="441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9520" y="441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76480" y="594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9520" y="5942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858000" y="2362320"/>
            <a:ext cx="1447920" cy="1066680"/>
            <a:chOff x="6858000" y="2362320"/>
            <a:chExt cx="1447920" cy="1066680"/>
          </a:xfrm>
        </p:grpSpPr>
        <p:sp>
          <p:nvSpPr>
            <p:cNvPr id="264" name=""/>
            <p:cNvSpPr/>
            <p:nvPr/>
          </p:nvSpPr>
          <p:spPr>
            <a:xfrm>
              <a:off x="7230960" y="2362320"/>
              <a:ext cx="701640" cy="1066680"/>
            </a:xfrm>
            <a:custGeom>
              <a:avLst/>
              <a:gdLst/>
              <a:ahLst/>
              <a:rect l="l" t="t" r="r" b="b"/>
              <a:pathLst>
                <a:path w="2256" h="2256">
                  <a:moveTo>
                    <a:pt x="0" y="2256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2208"/>
                  </a:lnTo>
                  <a:lnTo>
                    <a:pt x="1488" y="2208"/>
                  </a:lnTo>
                  <a:lnTo>
                    <a:pt x="1488" y="0"/>
                  </a:lnTo>
                  <a:lnTo>
                    <a:pt x="2256" y="0"/>
                  </a:lnTo>
                  <a:lnTo>
                    <a:pt x="2256" y="220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32600" y="340668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0" y="342900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858000" y="888840"/>
            <a:ext cx="1447920" cy="1067040"/>
            <a:chOff x="6858000" y="888840"/>
            <a:chExt cx="1447920" cy="1067040"/>
          </a:xfrm>
        </p:grpSpPr>
        <p:sp>
          <p:nvSpPr>
            <p:cNvPr id="268" name=""/>
            <p:cNvSpPr/>
            <p:nvPr/>
          </p:nvSpPr>
          <p:spPr>
            <a:xfrm>
              <a:off x="6858000" y="888840"/>
              <a:ext cx="1371600" cy="106704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32600" y="195588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0" y="195588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902040"/>
            <a:ext cx="1447920" cy="1066680"/>
            <a:chOff x="6781680" y="3902040"/>
            <a:chExt cx="1447920" cy="1066680"/>
          </a:xfrm>
        </p:grpSpPr>
        <p:sp>
          <p:nvSpPr>
            <p:cNvPr id="272" name=""/>
            <p:cNvSpPr/>
            <p:nvPr/>
          </p:nvSpPr>
          <p:spPr>
            <a:xfrm>
              <a:off x="6781680" y="39020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56640" y="496872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1680" y="496872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781680" y="5410080"/>
            <a:ext cx="1447920" cy="1067040"/>
            <a:chOff x="6781680" y="5410080"/>
            <a:chExt cx="1447920" cy="1067040"/>
          </a:xfrm>
        </p:grpSpPr>
        <p:sp>
          <p:nvSpPr>
            <p:cNvPr id="276" name=""/>
            <p:cNvSpPr/>
            <p:nvPr/>
          </p:nvSpPr>
          <p:spPr>
            <a:xfrm>
              <a:off x="6781680" y="5410080"/>
              <a:ext cx="1447920" cy="106704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56640" y="647712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647712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86000" y="2371680"/>
            <a:ext cx="1447920" cy="1066680"/>
            <a:chOff x="2286000" y="2371680"/>
            <a:chExt cx="1447920" cy="1066680"/>
          </a:xfrm>
        </p:grpSpPr>
        <p:sp>
          <p:nvSpPr>
            <p:cNvPr id="280" name=""/>
            <p:cNvSpPr/>
            <p:nvPr/>
          </p:nvSpPr>
          <p:spPr>
            <a:xfrm>
              <a:off x="2286000" y="2371680"/>
              <a:ext cx="1371600" cy="106668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528" y="672"/>
                  </a:lnTo>
                  <a:lnTo>
                    <a:pt x="528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60600" y="343836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86000" y="343836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0" y="3903840"/>
            <a:ext cx="1447920" cy="1066680"/>
            <a:chOff x="2286000" y="3903840"/>
            <a:chExt cx="1447920" cy="1066680"/>
          </a:xfrm>
        </p:grpSpPr>
        <p:sp>
          <p:nvSpPr>
            <p:cNvPr id="284" name=""/>
            <p:cNvSpPr/>
            <p:nvPr/>
          </p:nvSpPr>
          <p:spPr>
            <a:xfrm>
              <a:off x="2286000" y="39038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60600" y="497052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497052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09680" y="1905120"/>
            <a:ext cx="1447920" cy="1440"/>
            <a:chOff x="2209680" y="1905120"/>
            <a:chExt cx="1447920" cy="1440"/>
          </a:xfrm>
        </p:grpSpPr>
        <p:sp>
          <p:nvSpPr>
            <p:cNvPr id="288" name=""/>
            <p:cNvSpPr/>
            <p:nvPr/>
          </p:nvSpPr>
          <p:spPr>
            <a:xfrm>
              <a:off x="2286000" y="1905120"/>
              <a:ext cx="13716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84640" y="1906560"/>
              <a:ext cx="37296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9680" y="1906560"/>
              <a:ext cx="3812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286000" y="5435640"/>
            <a:ext cx="1447920" cy="1066680"/>
            <a:chOff x="2286000" y="5435640"/>
            <a:chExt cx="1447920" cy="1066680"/>
          </a:xfrm>
        </p:grpSpPr>
        <p:sp>
          <p:nvSpPr>
            <p:cNvPr id="292" name=""/>
            <p:cNvSpPr/>
            <p:nvPr/>
          </p:nvSpPr>
          <p:spPr>
            <a:xfrm>
              <a:off x="2286000" y="5435640"/>
              <a:ext cx="1447920" cy="106668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60600" y="6502320"/>
              <a:ext cx="37332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0" y="6502320"/>
              <a:ext cx="38088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5280" y="456480"/>
            <a:ext cx="75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digitised signal would look lik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620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74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62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66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270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4500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4548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65840" y="263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5960" y="2637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716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8632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2752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066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4000" y="1844640"/>
            <a:ext cx="655200" cy="484200"/>
            <a:chOff x="324000" y="1844640"/>
            <a:chExt cx="655200" cy="484200"/>
          </a:xfrm>
        </p:grpSpPr>
        <p:sp>
          <p:nvSpPr>
            <p:cNvPr id="310" name=""/>
            <p:cNvSpPr/>
            <p:nvPr/>
          </p:nvSpPr>
          <p:spPr>
            <a:xfrm>
              <a:off x="324000" y="1844640"/>
              <a:ext cx="621000" cy="48420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036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79560" y="1844640"/>
            <a:ext cx="655560" cy="484200"/>
            <a:chOff x="979560" y="1844640"/>
            <a:chExt cx="655560" cy="484200"/>
          </a:xfrm>
        </p:grpSpPr>
        <p:sp>
          <p:nvSpPr>
            <p:cNvPr id="314" name=""/>
            <p:cNvSpPr/>
            <p:nvPr/>
          </p:nvSpPr>
          <p:spPr>
            <a:xfrm>
              <a:off x="97956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6628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7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27200" y="1844640"/>
            <a:ext cx="655560" cy="484200"/>
            <a:chOff x="1627200" y="1844640"/>
            <a:chExt cx="655560" cy="484200"/>
          </a:xfrm>
        </p:grpSpPr>
        <p:sp>
          <p:nvSpPr>
            <p:cNvPr id="318" name=""/>
            <p:cNvSpPr/>
            <p:nvPr/>
          </p:nvSpPr>
          <p:spPr>
            <a:xfrm>
              <a:off x="162720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1392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272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74840" y="1844640"/>
            <a:ext cx="655560" cy="484200"/>
            <a:chOff x="2274840" y="1844640"/>
            <a:chExt cx="655560" cy="484200"/>
          </a:xfrm>
        </p:grpSpPr>
        <p:sp>
          <p:nvSpPr>
            <p:cNvPr id="322" name=""/>
            <p:cNvSpPr/>
            <p:nvPr/>
          </p:nvSpPr>
          <p:spPr>
            <a:xfrm>
              <a:off x="227484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120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7484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24280" y="1844640"/>
            <a:ext cx="655560" cy="484200"/>
            <a:chOff x="2924280" y="1844640"/>
            <a:chExt cx="655560" cy="484200"/>
          </a:xfrm>
        </p:grpSpPr>
        <p:sp>
          <p:nvSpPr>
            <p:cNvPr id="326" name=""/>
            <p:cNvSpPr/>
            <p:nvPr/>
          </p:nvSpPr>
          <p:spPr>
            <a:xfrm>
              <a:off x="292428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100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2428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571920" y="1844640"/>
            <a:ext cx="655560" cy="484200"/>
            <a:chOff x="3571920" y="1844640"/>
            <a:chExt cx="655560" cy="484200"/>
          </a:xfrm>
        </p:grpSpPr>
        <p:sp>
          <p:nvSpPr>
            <p:cNvPr id="330" name=""/>
            <p:cNvSpPr/>
            <p:nvPr/>
          </p:nvSpPr>
          <p:spPr>
            <a:xfrm>
              <a:off x="357192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8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7192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219560" y="1844640"/>
            <a:ext cx="655560" cy="484200"/>
            <a:chOff x="4219560" y="1844640"/>
            <a:chExt cx="655560" cy="484200"/>
          </a:xfrm>
        </p:grpSpPr>
        <p:sp>
          <p:nvSpPr>
            <p:cNvPr id="334" name=""/>
            <p:cNvSpPr/>
            <p:nvPr/>
          </p:nvSpPr>
          <p:spPr>
            <a:xfrm>
              <a:off x="421956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628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1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867200" y="1847880"/>
            <a:ext cx="649440" cy="477720"/>
            <a:chOff x="4867200" y="1847880"/>
            <a:chExt cx="649440" cy="477720"/>
          </a:xfrm>
        </p:grpSpPr>
        <p:sp>
          <p:nvSpPr>
            <p:cNvPr id="338" name=""/>
            <p:cNvSpPr/>
            <p:nvPr/>
          </p:nvSpPr>
          <p:spPr>
            <a:xfrm>
              <a:off x="4867200" y="1847880"/>
              <a:ext cx="615240" cy="47772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528" y="672"/>
                  </a:lnTo>
                  <a:lnTo>
                    <a:pt x="528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9240" y="2325600"/>
              <a:ext cx="16740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7200" y="2325600"/>
              <a:ext cx="1706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514840" y="1844640"/>
            <a:ext cx="655920" cy="484200"/>
            <a:chOff x="5514840" y="1844640"/>
            <a:chExt cx="655920" cy="484200"/>
          </a:xfrm>
        </p:grpSpPr>
        <p:sp>
          <p:nvSpPr>
            <p:cNvPr id="342" name=""/>
            <p:cNvSpPr/>
            <p:nvPr/>
          </p:nvSpPr>
          <p:spPr>
            <a:xfrm>
              <a:off x="5514840" y="1844640"/>
              <a:ext cx="65592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384" y="672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56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1484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164280" y="1844640"/>
            <a:ext cx="655200" cy="484200"/>
            <a:chOff x="6164280" y="1844640"/>
            <a:chExt cx="655200" cy="484200"/>
          </a:xfrm>
        </p:grpSpPr>
        <p:sp>
          <p:nvSpPr>
            <p:cNvPr id="346" name=""/>
            <p:cNvSpPr/>
            <p:nvPr/>
          </p:nvSpPr>
          <p:spPr>
            <a:xfrm>
              <a:off x="6164280" y="1844640"/>
              <a:ext cx="621000" cy="48420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384" y="672"/>
                  </a:lnTo>
                  <a:lnTo>
                    <a:pt x="864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50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6428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811920" y="1844640"/>
            <a:ext cx="655560" cy="484200"/>
            <a:chOff x="6811920" y="1844640"/>
            <a:chExt cx="655560" cy="484200"/>
          </a:xfrm>
        </p:grpSpPr>
        <p:sp>
          <p:nvSpPr>
            <p:cNvPr id="350" name=""/>
            <p:cNvSpPr/>
            <p:nvPr/>
          </p:nvSpPr>
          <p:spPr>
            <a:xfrm>
              <a:off x="681192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384" y="0"/>
                  </a:lnTo>
                  <a:lnTo>
                    <a:pt x="672" y="0"/>
                  </a:lnTo>
                  <a:lnTo>
                    <a:pt x="672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8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192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459560" y="1844640"/>
            <a:ext cx="655920" cy="484200"/>
            <a:chOff x="7459560" y="1844640"/>
            <a:chExt cx="655920" cy="484200"/>
          </a:xfrm>
        </p:grpSpPr>
        <p:sp>
          <p:nvSpPr>
            <p:cNvPr id="354" name=""/>
            <p:cNvSpPr/>
            <p:nvPr/>
          </p:nvSpPr>
          <p:spPr>
            <a:xfrm>
              <a:off x="7459560" y="1844640"/>
              <a:ext cx="65592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664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5956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36000" y="1844640"/>
            <a:ext cx="655560" cy="484200"/>
            <a:chOff x="8136000" y="1844640"/>
            <a:chExt cx="655560" cy="484200"/>
          </a:xfrm>
        </p:grpSpPr>
        <p:sp>
          <p:nvSpPr>
            <p:cNvPr id="358" name=""/>
            <p:cNvSpPr/>
            <p:nvPr/>
          </p:nvSpPr>
          <p:spPr>
            <a:xfrm>
              <a:off x="8136000" y="1844640"/>
              <a:ext cx="655560" cy="484200"/>
            </a:xfrm>
            <a:custGeom>
              <a:avLst/>
              <a:gdLst/>
              <a:ahLst/>
              <a:rect l="l" t="t" r="r" b="b"/>
              <a:pathLst>
                <a:path w="912" h="672">
                  <a:moveTo>
                    <a:pt x="0" y="672"/>
                  </a:moveTo>
                  <a:lnTo>
                    <a:pt x="240" y="672"/>
                  </a:lnTo>
                  <a:lnTo>
                    <a:pt x="240" y="0"/>
                  </a:lnTo>
                  <a:lnTo>
                    <a:pt x="528" y="0"/>
                  </a:lnTo>
                  <a:lnTo>
                    <a:pt x="528" y="672"/>
                  </a:lnTo>
                  <a:lnTo>
                    <a:pt x="912" y="67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22720" y="2328840"/>
              <a:ext cx="1688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36000" y="2328840"/>
              <a:ext cx="172440" cy="0"/>
            </a:xfrm>
            <a:prstGeom prst="line">
              <a:avLst/>
            </a:prstGeom>
            <a:ln w="572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50920" y="414972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ignal is then sent via frequency modulated EM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4000" y="333360"/>
            <a:ext cx="81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ital signal is then returned to an analogu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038240" y="1557360"/>
            <a:ext cx="7926840" cy="4562280"/>
            <a:chOff x="1038240" y="1557360"/>
            <a:chExt cx="7926840" cy="4562280"/>
          </a:xfrm>
        </p:grpSpPr>
        <p:grpSp>
          <p:nvGrpSpPr>
            <p:cNvPr id="364" name=""/>
            <p:cNvGrpSpPr/>
            <p:nvPr/>
          </p:nvGrpSpPr>
          <p:grpSpPr>
            <a:xfrm>
              <a:off x="1038240" y="2238480"/>
              <a:ext cx="7640280" cy="3881160"/>
              <a:chOff x="1038240" y="2238480"/>
              <a:chExt cx="7640280" cy="388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1040040" y="25956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38240" y="30798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038240" y="35640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38240" y="404820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038240" y="45338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38240" y="50180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38240" y="5502240"/>
                <a:ext cx="7215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99800" y="55990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98000" y="5087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299800" y="4613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99800" y="4154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98000" y="36799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98000" y="32781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298000" y="2746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98000" y="22384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13440" y="155736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Lev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914960" y="6237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916280"/>
            <a:ext cx="0" cy="4055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597204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6200000">
            <a:off x="-379440" y="27291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740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1040" y="3716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1612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4316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24120" y="465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5116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3212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59160" y="321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63880" y="515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16480" y="4653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48120" y="3716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6960" y="22734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27760" y="27781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84960" y="5157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872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848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1764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680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86680" y="6089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56320" y="6089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7280" y="60897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9752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7836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6860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48000" y="608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76360" y="2241720"/>
            <a:ext cx="6048360" cy="3514680"/>
          </a:xfrm>
          <a:custGeom>
            <a:avLst/>
            <a:gdLst/>
            <a:ahLst/>
            <a:rect l="l" t="t" r="r" b="b"/>
            <a:pathLst>
              <a:path w="3810" h="2214">
                <a:moveTo>
                  <a:pt x="0" y="1156"/>
                </a:moveTo>
                <a:cubicBezTo>
                  <a:pt x="105" y="914"/>
                  <a:pt x="211" y="673"/>
                  <a:pt x="317" y="567"/>
                </a:cubicBezTo>
                <a:cubicBezTo>
                  <a:pt x="423" y="461"/>
                  <a:pt x="537" y="325"/>
                  <a:pt x="635" y="521"/>
                </a:cubicBezTo>
                <a:cubicBezTo>
                  <a:pt x="733" y="717"/>
                  <a:pt x="809" y="1791"/>
                  <a:pt x="907" y="1746"/>
                </a:cubicBezTo>
                <a:cubicBezTo>
                  <a:pt x="1005" y="1701"/>
                  <a:pt x="1111" y="498"/>
                  <a:pt x="1224" y="249"/>
                </a:cubicBezTo>
                <a:cubicBezTo>
                  <a:pt x="1337" y="0"/>
                  <a:pt x="1474" y="151"/>
                  <a:pt x="1587" y="249"/>
                </a:cubicBezTo>
                <a:cubicBezTo>
                  <a:pt x="1700" y="347"/>
                  <a:pt x="1799" y="537"/>
                  <a:pt x="1905" y="839"/>
                </a:cubicBezTo>
                <a:cubicBezTo>
                  <a:pt x="2011" y="1141"/>
                  <a:pt x="2109" y="1912"/>
                  <a:pt x="2222" y="2063"/>
                </a:cubicBezTo>
                <a:cubicBezTo>
                  <a:pt x="2335" y="2214"/>
                  <a:pt x="2479" y="1905"/>
                  <a:pt x="2585" y="1746"/>
                </a:cubicBezTo>
                <a:cubicBezTo>
                  <a:pt x="2691" y="1587"/>
                  <a:pt x="2759" y="1368"/>
                  <a:pt x="2857" y="1111"/>
                </a:cubicBezTo>
                <a:cubicBezTo>
                  <a:pt x="2955" y="854"/>
                  <a:pt x="3069" y="295"/>
                  <a:pt x="3175" y="204"/>
                </a:cubicBezTo>
                <a:cubicBezTo>
                  <a:pt x="3281" y="113"/>
                  <a:pt x="3386" y="257"/>
                  <a:pt x="3492" y="567"/>
                </a:cubicBezTo>
                <a:cubicBezTo>
                  <a:pt x="3598" y="877"/>
                  <a:pt x="3704" y="1470"/>
                  <a:pt x="3810" y="2063"/>
                </a:cubicBezTo>
              </a:path>
            </a:pathLst>
          </a:custGeom>
          <a:noFill/>
          <a:ln w="5724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2276640"/>
            <a:ext cx="6626160" cy="3457440"/>
          </a:xfrm>
          <a:custGeom>
            <a:avLst/>
            <a:gdLst/>
            <a:ahLst/>
            <a:rect l="l" t="t" r="r" b="b"/>
            <a:pathLst>
              <a:path w="2544" h="1336">
                <a:moveTo>
                  <a:pt x="0" y="712"/>
                </a:moveTo>
                <a:cubicBezTo>
                  <a:pt x="16" y="784"/>
                  <a:pt x="32" y="856"/>
                  <a:pt x="96" y="760"/>
                </a:cubicBezTo>
                <a:cubicBezTo>
                  <a:pt x="160" y="664"/>
                  <a:pt x="304" y="136"/>
                  <a:pt x="384" y="136"/>
                </a:cubicBezTo>
                <a:cubicBezTo>
                  <a:pt x="464" y="136"/>
                  <a:pt x="520" y="600"/>
                  <a:pt x="576" y="760"/>
                </a:cubicBezTo>
                <a:cubicBezTo>
                  <a:pt x="632" y="920"/>
                  <a:pt x="672" y="1200"/>
                  <a:pt x="720" y="1096"/>
                </a:cubicBezTo>
                <a:cubicBezTo>
                  <a:pt x="768" y="992"/>
                  <a:pt x="824" y="224"/>
                  <a:pt x="864" y="136"/>
                </a:cubicBezTo>
                <a:cubicBezTo>
                  <a:pt x="904" y="48"/>
                  <a:pt x="928" y="560"/>
                  <a:pt x="960" y="568"/>
                </a:cubicBezTo>
                <a:cubicBezTo>
                  <a:pt x="992" y="576"/>
                  <a:pt x="1024" y="120"/>
                  <a:pt x="1056" y="184"/>
                </a:cubicBezTo>
                <a:cubicBezTo>
                  <a:pt x="1088" y="248"/>
                  <a:pt x="1112" y="920"/>
                  <a:pt x="1152" y="952"/>
                </a:cubicBezTo>
                <a:cubicBezTo>
                  <a:pt x="1192" y="984"/>
                  <a:pt x="1248" y="328"/>
                  <a:pt x="1296" y="376"/>
                </a:cubicBezTo>
                <a:cubicBezTo>
                  <a:pt x="1344" y="424"/>
                  <a:pt x="1360" y="1144"/>
                  <a:pt x="1440" y="1240"/>
                </a:cubicBezTo>
                <a:cubicBezTo>
                  <a:pt x="1520" y="1336"/>
                  <a:pt x="1704" y="1104"/>
                  <a:pt x="1776" y="952"/>
                </a:cubicBezTo>
                <a:cubicBezTo>
                  <a:pt x="1848" y="800"/>
                  <a:pt x="1840" y="480"/>
                  <a:pt x="1872" y="328"/>
                </a:cubicBezTo>
                <a:cubicBezTo>
                  <a:pt x="1904" y="176"/>
                  <a:pt x="1928" y="0"/>
                  <a:pt x="1968" y="40"/>
                </a:cubicBezTo>
                <a:cubicBezTo>
                  <a:pt x="2008" y="80"/>
                  <a:pt x="2064" y="512"/>
                  <a:pt x="2112" y="568"/>
                </a:cubicBezTo>
                <a:cubicBezTo>
                  <a:pt x="2160" y="624"/>
                  <a:pt x="2208" y="272"/>
                  <a:pt x="2256" y="376"/>
                </a:cubicBezTo>
                <a:cubicBezTo>
                  <a:pt x="2304" y="480"/>
                  <a:pt x="2352" y="1160"/>
                  <a:pt x="2400" y="1192"/>
                </a:cubicBezTo>
                <a:cubicBezTo>
                  <a:pt x="2448" y="1224"/>
                  <a:pt x="2528" y="696"/>
                  <a:pt x="2544" y="56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95280" y="620640"/>
            <a:ext cx="77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match of reconstructed wave to original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8360" y="2349360"/>
            <a:ext cx="47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ore 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87280" y="3141720"/>
            <a:ext cx="69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number of levels – more bits per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893880" y="1587600"/>
            <a:ext cx="7639920" cy="3881160"/>
            <a:chOff x="893880" y="1587600"/>
            <a:chExt cx="7639920" cy="3881160"/>
          </a:xfrm>
        </p:grpSpPr>
        <p:sp>
          <p:nvSpPr>
            <p:cNvPr id="417" name=""/>
            <p:cNvSpPr/>
            <p:nvPr/>
          </p:nvSpPr>
          <p:spPr>
            <a:xfrm>
              <a:off x="895320" y="1944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3880" y="24289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93880" y="29131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93880" y="3397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3880" y="38829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3880" y="43671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3880" y="48513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55080" y="4948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53640" y="44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55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5080" y="3503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53640" y="3029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53640" y="2627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53640" y="209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3640" y="158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668720" y="9064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2160" y="5589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311120" y="2022480"/>
            <a:ext cx="6100920" cy="3301920"/>
            <a:chOff x="1311120" y="2022480"/>
            <a:chExt cx="6100920" cy="3301920"/>
          </a:xfrm>
        </p:grpSpPr>
        <p:sp>
          <p:nvSpPr>
            <p:cNvPr id="435" name=""/>
            <p:cNvSpPr/>
            <p:nvPr/>
          </p:nvSpPr>
          <p:spPr>
            <a:xfrm flipV="1">
              <a:off x="1311120" y="354564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819080" y="2295000"/>
              <a:ext cx="0" cy="30286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328840" y="2529720"/>
              <a:ext cx="0" cy="27939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36800" y="4435560"/>
              <a:ext cx="0" cy="8881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344760" y="2022480"/>
              <a:ext cx="0" cy="3301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853440" y="214956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61400" y="2910600"/>
              <a:ext cx="0" cy="24134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869360" y="4816440"/>
              <a:ext cx="0" cy="5076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5377680" y="4568760"/>
              <a:ext cx="13680" cy="7549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6000" y="3545640"/>
              <a:ext cx="0" cy="1778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95400" y="2149560"/>
              <a:ext cx="0" cy="317448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903720" y="2657160"/>
              <a:ext cx="0" cy="26665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12040" y="4702680"/>
              <a:ext cx="0" cy="621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922320" y="1265400"/>
            <a:ext cx="0" cy="4055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22320" y="5321160"/>
            <a:ext cx="715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-523800" y="2078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12960" y="1677960"/>
            <a:ext cx="7779600" cy="3689280"/>
            <a:chOff x="912960" y="1677960"/>
            <a:chExt cx="7779600" cy="3689280"/>
          </a:xfrm>
        </p:grpSpPr>
        <p:sp>
          <p:nvSpPr>
            <p:cNvPr id="452" name=""/>
            <p:cNvSpPr/>
            <p:nvPr/>
          </p:nvSpPr>
          <p:spPr>
            <a:xfrm>
              <a:off x="912960" y="25970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12960" y="30510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2960" y="35053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2960" y="39607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2960" y="44146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2960" y="48690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12960" y="23702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12960" y="28242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2960" y="327816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12960" y="373392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12960" y="41878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12960" y="464184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2960" y="509580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12960" y="21430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12960" y="1916280"/>
              <a:ext cx="7215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28160" y="4846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28160" y="434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28160" y="3909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15480" y="21528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15480" y="16779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8160" y="3478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28160" y="3046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15480" y="2625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35480" y="17928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eve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8:31Z</dcterms:created>
  <dc:creator>Bridges</dc:creator>
  <dc:description/>
  <dc:language>en-US</dc:language>
  <cp:lastModifiedBy>PALMER</cp:lastModifiedBy>
  <dcterms:modified xsi:type="dcterms:W3CDTF">2011-07-11T16:24:08Z</dcterms:modified>
  <cp:revision>2</cp:revision>
  <dc:subject/>
  <dc:title>Chapter 3. Signalling.</dc:title>
</cp:coreProperties>
</file>